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566C-90DC-4A61-8636-D6761A22FB2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49E1-B1A7-4906-9068-8A07BE2E728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3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ές δεδομένων, αλγόριθμοι, πολυπλο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γκεκριμένοι και αφηρημένοι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δεδομένων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ta abstractio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χωρισμό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οτήτ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:</a:t>
            </a:r>
            <a:br>
              <a:rPr sz="2800"/>
            </a:b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ο τρόπος με τον οποίο δημιουργεί κανείς και χρησιμοποιεί δεδομένα αυτού του τύπ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:</a:t>
            </a:r>
            <a:br>
              <a:rPr sz="2800"/>
            </a:b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ο τρόπος με τον οποίο αναπαρίστανται τα δεδομένα στη μνήμη του υπολογιστή και προγραμματίζονται οι διαθέσιμες πράξ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πτομέρειες υλοποίησης επηρεάζουν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η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ολυπλοκότητ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ων αλγορίθμ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συχνή επομένως 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λλαγή τρόπου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άποιου τύπου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φαίρεση δεδομέν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λαχιστοποιεί τις αλλαγές που απαιτούνται στο πρόγραμμα που χρησιμοποιεί έναν τύπο δεδομένων, όταν αλλάξει ο τρόπος υλοποί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φηρημένοι τύποι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ηρημένος τύπος δεδομένων – ΑΤΔ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bstract data t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τ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καθορίζει τη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λγεβρικός ορισμός Α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ταξ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όνομα του τύπου και επικεφαλίδες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ημασιολο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κανόνες που περιγράφουν τη λειτουργία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ολα ακεραίων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const set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empty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spcBef>
                <a:spcPts val="174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Σημείωση: 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εωρούμε ότι έχει οριστεί κατάλληλα ο τύπος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empty)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x, s)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y, s)) = member(x, s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 !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empty, s) = 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add(x, s1), s2) =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add(x, union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empty, s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add(x, s1)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member(x, s2), subset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al(s1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subset(s1, s2), subset(s2, s1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γκεκριμένοι τύποι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γκεκριμένος τύπος δεδομένων – ΣΤΔ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concrete data t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τ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επακριβώς τη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γλώσσα προγραμματισμού υποστηρίζει ορισμένους ΣΤΔ, π.χ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πλοί τύπο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ακέραιοι αριθμοί, πραγματικοί αριθμοί, χαρακτήρες, λογικές τιμ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θετοι τύπο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πίνακ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rray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γγραφέ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ord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ίκτ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inter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ολα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t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έση ΑΤΔ και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ΑΤΔ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ολα ακερα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{ 1, 3, 7, 9 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1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πίνακας από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880" y="2590920"/>
            <a:ext cx="8382240" cy="914400"/>
            <a:chOff x="380880" y="2590920"/>
            <a:chExt cx="8382240" cy="914400"/>
          </a:xfrm>
        </p:grpSpPr>
        <p:sp>
          <p:nvSpPr>
            <p:cNvPr id="121" name=""/>
            <p:cNvSpPr/>
            <p:nvPr/>
          </p:nvSpPr>
          <p:spPr>
            <a:xfrm>
              <a:off x="1905120" y="2590920"/>
              <a:ext cx="76176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3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7120" y="2590920"/>
              <a:ext cx="76176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5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8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1120" y="2590920"/>
              <a:ext cx="76176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52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1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305748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2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300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1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305748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8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6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3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500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7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38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9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0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06720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4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305748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5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2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6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10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2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s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ός πίνακα από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23880" y="4495680"/>
            <a:ext cx="6400800" cy="1066680"/>
            <a:chOff x="1523880" y="4495680"/>
            <a:chExt cx="6400800" cy="1066680"/>
          </a:xfrm>
        </p:grpSpPr>
        <p:sp>
          <p:nvSpPr>
            <p:cNvPr id="145" name=""/>
            <p:cNvSpPr/>
            <p:nvPr/>
          </p:nvSpPr>
          <p:spPr>
            <a:xfrm>
              <a:off x="4724280" y="4495680"/>
              <a:ext cx="3200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23880" y="4495680"/>
              <a:ext cx="3200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510516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1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90920" y="510516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3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512424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7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9200" y="510516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9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10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40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53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862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70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814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244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57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866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674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ατικό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ρόπος υλοποίησης ΣΤ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έση ΑΤΔ και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3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υναμικό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ρόπος υλοποίησης ΣΤ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4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συμβολοσειρά που περιέχει το μαθηματικό ορισμό του συνόλ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{x | x=1 \/ x=3 \/ x=7 \/ x=9}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{x | 1&lt;=x&lt;=10 /\ x%2=1 /\ x&lt;&gt;5}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ύσκολη η υλοποίηση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ειροσύνολα: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{x | x &gt; 100}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62120" y="2133720"/>
            <a:ext cx="7543800" cy="990360"/>
            <a:chOff x="762120" y="2133720"/>
            <a:chExt cx="7543800" cy="990360"/>
          </a:xfrm>
        </p:grpSpPr>
        <p:sp>
          <p:nvSpPr>
            <p:cNvPr id="172" name=""/>
            <p:cNvSpPr/>
            <p:nvPr/>
          </p:nvSpPr>
          <p:spPr>
            <a:xfrm>
              <a:off x="160020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33720" y="213372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8280" y="2362320"/>
              <a:ext cx="8384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oval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213372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988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14800" y="2362320"/>
              <a:ext cx="83808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oval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5288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8640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1320" y="2362320"/>
              <a:ext cx="83808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oval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2920" y="213372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120" y="2362320"/>
              <a:ext cx="83808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2362320"/>
              <a:ext cx="6098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77320" y="2362320"/>
              <a:ext cx="0" cy="609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48720" y="2971800"/>
              <a:ext cx="4572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24680" y="3048120"/>
              <a:ext cx="3049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01000" y="3124080"/>
              <a:ext cx="1522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ολουθία μεταβλη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 ίδιο όνομα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ν ίδιο τύπο δεδομένων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συνεχόμενες θέσεις μνήμης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1[5], d2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αρίθμηση αρχίζει από το 0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5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6, 7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] = {'a', 'b', 'c', 'd', 'e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πίνακες χαρακτή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"abcde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ρματίζονται με τον κενό χαρακτήρ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\0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{'a', 'b', 'c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'd', 'e', '\0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5, 6, 7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b[3] = {2, 3, 1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times %d is %d\n"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, b[i], a[i]*b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876920"/>
            <a:ext cx="3733560" cy="1081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5 times 2 is 1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6 times 3 is 1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7 times 1 is 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5][10][4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[3][3] = { {1, 0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1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0, 1}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[10] =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my", "name", "is", "jo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πολλαπλασιασμός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[3][4] = ... 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[4][5] = ... 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j, 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j=0; j&lt;5; j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k=0; k&lt;4; k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+= a[i][k] * b[k]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λγόριθμ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Πεπερασμένο σύνολο εντολών που,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όταν εκτελεστούν,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επιτυγχάνουν κάποιο επιθυμητό αποτέλεσ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δομένα εισόδου και 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εντολή πρέπει να είναι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λά ορισμέν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κτέλεση πρέπει να σταματ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ολυπλοκό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Μέτρο εκτίμησης της απόδοσης αλγορίθμων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ως συνάρτηση του μεγέθους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του προβλήματος που επιλύου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όνος 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ωρητικότητα μνήμης που απαιτεί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ριβής μέτρηση πολυπλοκότητ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=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άξη μεγέθους, συμβολισμοί Ο, Ω, 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= O(f(n)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ισμός των κλάσεω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Ο, Ω, 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Άνω όρι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 = O(f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Ϋ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&gt;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 g(n) &lt; c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άτω όρι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 =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Ω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f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Ϋ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&gt;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 g(n) &gt; c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άξη μεγέθ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 = Θ(f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Ϋ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&gt;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f(n) &lt; g(n) &lt; 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ταξη μερικών κλάσεων πολυπλοκότητ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O(1) &lt; O(log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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log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2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!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23T14:58:42Z</dcterms:modified>
  <cp:revision>38</cp:revision>
  <dc:subject>Προγραμματιστικές Τεχνικές</dc:subject>
  <dc:title>Διαφάνειες παρουσίασης</dc:title>
</cp:coreProperties>
</file>