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01E8-9865-4034-A814-9E2D9AD3672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F041-3C50-465B-9001-5198BBC264BB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ξανά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ει νέα εμβέλει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&lt; y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97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13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11T19:24:18Z</dcterms:modified>
  <cp:revision>30</cp:revision>
  <dc:subject>Προγραμματιστικές Τεχνικές</dc:subject>
  <dc:title>Διαφάνειες παρουσίασης</dc:title>
</cp:coreProperties>
</file>