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7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29528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3922200"/>
            <a:ext cx="250236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15228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392220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295280"/>
            <a:ext cx="37926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3922200"/>
            <a:ext cx="77724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3" marL="156204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4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5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6" marL="1981080" indent="-22860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0D788-7698-4667-9107-B819362C5B1C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617400" y="1066680"/>
            <a:ext cx="7917120" cy="7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90480" y="37972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81280" y="457200"/>
            <a:ext cx="559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ahoma"/>
              </a:rPr>
              <a:t>ΠΡΟΓΡΑΜΜΑΤΙΣΤΙΚΕΣ ΤΕΧΝΙΚΕ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1522440"/>
            <a:ext cx="868680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100240" indent="-2100240">
              <a:tabLst>
                <a:tab algn="l" pos="0"/>
                <a:tab algn="l" pos="5140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Διδάσκοντες: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Γιάννης Μαΐστρ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maistros@cs.ntua.gr)</a:t>
            </a:r>
            <a:br>
              <a:rPr sz="28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Στάθης Ζάχος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zachos@cs.ntua.gr)</a:t>
            </a:r>
            <a:br>
              <a:rPr sz="3200"/>
            </a:b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Νίκος Παπασπύρου</a:t>
            </a:r>
            <a:r>
              <a:rPr b="0" lang="el-GR" sz="2800" spc="-1" strike="noStrike">
                <a:solidFill>
                  <a:srgbClr val="660066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660066"/>
                </a:solidFill>
                <a:latin typeface="Tahoma"/>
              </a:rPr>
              <a:t>(nickie@softlab.ntua.g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20280" y="91440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2400" spc="-1" strike="noStrike">
                <a:solidFill>
                  <a:srgbClr val="333333"/>
                </a:solidFill>
                <a:latin typeface="Tahoma"/>
              </a:rPr>
              <a:t>http://www.softlab.ntua.gr/~nickie/Courses/progtech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415360" y="6484680"/>
            <a:ext cx="93348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7FD19-E01E-481E-B7BA-A8DE2E9F35C1}" type="slidenum">
              <a:rPr b="0" lang="en-GB" sz="1400" spc="-1" strike="noStrike">
                <a:solidFill>
                  <a:srgbClr val="004c2b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8280" y="6484680"/>
            <a:ext cx="8436240" cy="30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>
              <a:tabLst>
                <a:tab algn="l" pos="0"/>
                <a:tab algn="ctr" pos="4957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Νίκος Παπασπύρου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1400" spc="-1" strike="noStrike">
                <a:solidFill>
                  <a:srgbClr val="004c2b"/>
                </a:solidFill>
                <a:latin typeface="Times New Roman"/>
              </a:rPr>
              <a:t>Προγραμματιστικές Τεχνικές</a:t>
            </a:r>
            <a:endParaRPr b="0" lang="en-US" sz="1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>
              <a:lnSpc>
                <a:spcPct val="7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Click to edit the outline text form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333333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3" marL="1333440" algn="ctr">
              <a:spcBef>
                <a:spcPts val="499"/>
              </a:spcBef>
              <a:buClr>
                <a:srgbClr val="333333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4" marL="1752480" algn="ctr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5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  <a:p>
            <a:pPr lvl="6" marL="1752480">
              <a:spcBef>
                <a:spcPts val="4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0481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Διαφάνειες παρουσίασης #1 (β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371600" y="4343040"/>
            <a:ext cx="640080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Ορισμός μεταβλητών, αρχικοποίηση, σταθερέ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Σχόλια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Εισαγωγή στις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printf 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και </a:t>
            </a:r>
            <a:r>
              <a:rPr b="0" lang="en-US" sz="2400" spc="-1" strike="noStrike">
                <a:solidFill>
                  <a:srgbClr val="003366"/>
                </a:solidFill>
                <a:latin typeface="Times New Roman"/>
              </a:rPr>
              <a:t>scanf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Τελεστές και εκφράσεις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ισαγωγή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scan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Ίδιοι κωδικοί για τους απλούς τύπ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n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d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 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n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lf", &amp;d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c", &amp;c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Ένα πιο σύνθετο παράδειγμ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celcius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farenheit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Give the temperature (C): "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canf("%d", &amp;celcius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arenheit = 9.0 * celcius / 5.0 + 32.0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 degrees Celcius ”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"is %lf degrees Farenheit",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 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elcius, farenheit);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marL="33948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ητ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+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*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/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%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χεσια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=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=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=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Λογικοί τελεστ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σύ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κα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διάζευξ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ή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!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λογική 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όχι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.χ.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003366"/>
                </a:solidFill>
                <a:latin typeface="Courier New"/>
              </a:rPr>
              <a:t>(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x % 3 != 0) &amp;&amp; !finished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ρος </a:t>
            </a:r>
            <a:r>
              <a:rPr b="0" lang="en-US" sz="3200" spc="-1" strike="noStrike">
                <a:solidFill>
                  <a:srgbClr val="003366"/>
                </a:solidFill>
                <a:latin typeface="Times New Roman"/>
              </a:rPr>
              <a:t>bit (bitwise)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amp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σύζευξ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AND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|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^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ποκλειστική διάζευξη bit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XOR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~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άρνηση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(NOT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lt;&l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αριστερ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&gt;&gt;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ολίσθηση </a:t>
            </a:r>
            <a:r>
              <a:rPr b="0" lang="en-US" sz="2400" spc="-1" strike="noStrike">
                <a:solidFill>
                  <a:srgbClr val="333333"/>
                </a:solidFill>
                <a:latin typeface="Times New Roman"/>
              </a:rPr>
              <a:t>bit 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δεξιά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0x0101 &amp; 0xfff0) &lt;&lt; 2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Symbol"/>
                <a:ea typeface="Symbol"/>
              </a:rPr>
              <a:t>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0x0400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ελεστές και εκφράσει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συνθήκ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(a &gt;= b) ? a : b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ής παρ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1, b+5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νάθε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b+1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+= x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ισοδύναμο με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 = a + x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ελεστές αύξησης και μείω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++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a--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πριν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++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--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400" spc="-1" strike="noStrike">
                <a:solidFill>
                  <a:srgbClr val="333333"/>
                </a:solidFill>
                <a:latin typeface="Times New Roman"/>
              </a:rPr>
              <a:t>τιμή μετά τη μεταβολή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Τύποι δεδομένων (απλοί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οι αριθμοί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har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προσήμανση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αθορισμός μεγέθου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shor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long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ιθμοί 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float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Πίνακας απλών τύπων δεδομένω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char , signed char , unsigned char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short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int , unsigned 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signed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 , unsigned long </a:t>
            </a:r>
            <a:r>
              <a:rPr b="1" lang="en-US" sz="2400" spc="-1" strike="noStrike">
                <a:solidFill>
                  <a:srgbClr val="ff0000"/>
                </a:solidFill>
                <a:latin typeface="Courier New"/>
              </a:rPr>
              <a:t>in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float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Courier New"/>
              </a:rPr>
              <a:t>long double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Με </a:t>
            </a:r>
            <a:r>
              <a:rPr b="0" lang="el-GR" sz="2400" spc="-1" strike="noStrike">
                <a:solidFill>
                  <a:srgbClr val="ff0000"/>
                </a:solidFill>
                <a:latin typeface="Times New Roman"/>
              </a:rPr>
              <a:t>κόκκινο</a:t>
            </a:r>
            <a:r>
              <a:rPr b="0" lang="el-GR" sz="2400" spc="-1" strike="noStrike">
                <a:solidFill>
                  <a:srgbClr val="003366"/>
                </a:solidFill>
                <a:latin typeface="Times New Roman"/>
              </a:rPr>
              <a:t> χρώμα όσα μπορούν να παραλειφθούν.</a:t>
            </a: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62120" y="1752480"/>
            <a:ext cx="7619760" cy="3733920"/>
          </a:xfrm>
          <a:prstGeom prst="rect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62120" y="236232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62120" y="2857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762120" y="33526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62120" y="388620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62120" y="438156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62120" y="4915080"/>
            <a:ext cx="7619760" cy="0"/>
          </a:xfrm>
          <a:prstGeom prst="line">
            <a:avLst/>
          </a:prstGeom>
          <a:ln w="93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Ορισμός μεταβλητών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295280"/>
            <a:ext cx="8001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, z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ρχικοποίηση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 = 1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int x, y = 0, z = 2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double r = 1.87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unsigned long abc = 42000000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κέραι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οκτ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δεκαεξ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UL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unsigned &amp; long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Κινητής υποδιαστολή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13160" indent="0"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-1.3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δεκαδικέ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2.99e8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με δύναμη του 10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131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42.0L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float &amp; long double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Χαρακτήρ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a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0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'$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Ειδικοί χαρακτήρε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n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γραμμή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'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πόστροφος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\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backslash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t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αλλαγή στήλης (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tab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εισαγωγικό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χαρακτήρας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0 (null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37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37 (οκτ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\0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x1f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  »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 με 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ASCII </a:t>
            </a: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= 1f (δεκαεξαδικό)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ταθερές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	</a:t>
            </a: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(iii)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Συμβολοσειρέ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bc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Hello world!\n"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"a\"51\""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Δηλώσεις σταθερώ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int size = 10, num = 5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const double pi = 3.14159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1905120"/>
                <a:tab algn="l" pos="3137040"/>
                <a:tab algn="l" pos="476244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	</a:t>
            </a:r>
            <a:r>
              <a:rPr b="1" lang="el-GR" sz="2400" spc="-1" strike="noStrike">
                <a:solidFill>
                  <a:srgbClr val="333333"/>
                </a:solidFill>
                <a:latin typeface="Courier New"/>
              </a:rPr>
              <a:t>const char newline = '\n'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1447200" y="5257800"/>
            <a:ext cx="5639400" cy="1143000"/>
            <a:chOff x="1447200" y="5257800"/>
            <a:chExt cx="5639400" cy="1143000"/>
          </a:xfrm>
        </p:grpSpPr>
        <p:sp>
          <p:nvSpPr>
            <p:cNvPr id="107" name=""/>
            <p:cNvSpPr/>
            <p:nvPr/>
          </p:nvSpPr>
          <p:spPr>
            <a:xfrm>
              <a:off x="6172200" y="5257800"/>
              <a:ext cx="914400" cy="1143000"/>
            </a:xfrm>
            <a:prstGeom prst="lightningBolt">
              <a:avLst/>
            </a:prstGeom>
            <a:solidFill>
              <a:srgbClr val="ff0000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 flipH="1" rot="16200000">
              <a:off x="3237480" y="4152960"/>
              <a:ext cx="304920" cy="3886200"/>
            </a:xfrm>
            <a:custGeom>
              <a:avLst/>
              <a:gdLst>
                <a:gd name="textAreaLeft" fmla="*/ -360 w 304920"/>
                <a:gd name="textAreaRight" fmla="*/ 213480 w 304920"/>
                <a:gd name="textAreaTop" fmla="*/ 161640 h 3886200"/>
                <a:gd name="textAreaBottom" fmla="*/ 3724560 h 38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10800" y="0"/>
                    <a:pt x="21600" y="900"/>
                    <a:pt x="21600" y="1800"/>
                  </a:cubicBezTo>
                  <a:lnTo>
                    <a:pt x="21600" y="19800"/>
                  </a:lnTo>
                  <a:cubicBezTo>
                    <a:pt x="21600" y="20700"/>
                    <a:pt x="10800" y="21600"/>
                    <a:pt x="0" y="21600"/>
                  </a:cubicBezTo>
                </a:path>
              </a:pathLst>
            </a:custGeom>
            <a:noFill/>
            <a:ln w="28440">
              <a:solidFill>
                <a:srgbClr val="333333"/>
              </a:solidFill>
              <a:miter/>
              <a:headEnd len="med" type="oval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333333"/>
                </a:solidFill>
                <a:latin typeface="Times New Roman"/>
              </a:endParaRPr>
            </a:p>
          </p:txBody>
        </p: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Σχόλια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Μεταξύ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/*</a:t>
            </a: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 και </a:t>
            </a:r>
            <a:r>
              <a:rPr b="1" lang="el-GR" sz="3200" spc="-1" strike="noStrike">
                <a:solidFill>
                  <a:srgbClr val="003366"/>
                </a:solidFill>
                <a:latin typeface="Courier New"/>
              </a:rPr>
              <a:t>*/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#include &lt;stdio.h&gt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This simple program greets the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  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world by saying "hello"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void main ()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  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 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eh?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 "Hello world!\n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Το παρακάτω είναι λάθος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Nested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/* </a:t>
            </a:r>
            <a:r>
              <a:rPr b="1" i="1" lang="en-US" sz="2400" spc="-1" strike="noStrike">
                <a:solidFill>
                  <a:srgbClr val="004c2b"/>
                </a:solidFill>
                <a:latin typeface="Courier New"/>
              </a:rPr>
              <a:t>comments </a:t>
            </a:r>
            <a:r>
              <a:rPr b="1" lang="en-US" sz="2400" spc="-1" strike="noStrike">
                <a:solidFill>
                  <a:srgbClr val="004c2b"/>
                </a:solidFill>
                <a:latin typeface="Courier New"/>
              </a:rPr>
              <a:t>*/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</a:t>
            </a:r>
            <a:r>
              <a:rPr b="1" i="1" lang="en-US" sz="2400" spc="-1" strike="noStrike">
                <a:solidFill>
                  <a:srgbClr val="660066"/>
                </a:solidFill>
                <a:latin typeface="Courier New"/>
              </a:rPr>
              <a:t>are wrong!</a:t>
            </a:r>
            <a:r>
              <a:rPr b="1" lang="en-US" sz="2400" spc="-1" strike="noStrike">
                <a:solidFill>
                  <a:srgbClr val="660066"/>
                </a:solidFill>
                <a:latin typeface="Courier New"/>
              </a:rPr>
              <a:t> */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600" spc="-1" strike="noStrike">
                <a:solidFill>
                  <a:srgbClr val="004c2b"/>
                </a:solidFill>
                <a:latin typeface="Times New Roman"/>
              </a:rPr>
              <a:t>Εκτύπωση με την </a:t>
            </a:r>
            <a:r>
              <a:rPr b="0" lang="en-US" sz="3600" spc="-1" strike="noStrike">
                <a:solidFill>
                  <a:srgbClr val="004c2b"/>
                </a:solidFill>
                <a:latin typeface="Times New Roman"/>
              </a:rPr>
              <a:t>printf</a:t>
            </a:r>
            <a:endParaRPr b="0" lang="en-US" sz="36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12952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λοί τύποι δεδομένων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int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d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char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c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double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lf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lvl="1" marL="743040" indent="-285840"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string</a:t>
            </a:r>
            <a:r>
              <a:rPr b="0" lang="en-US" sz="2800" spc="-1" strike="noStrike">
                <a:solidFill>
                  <a:srgbClr val="333333"/>
                </a:solidFill>
                <a:latin typeface="Times New Roman"/>
              </a:rPr>
              <a:t>	</a:t>
            </a:r>
            <a:r>
              <a:rPr b="1" lang="en-US" sz="2800" spc="-1" strike="noStrike">
                <a:solidFill>
                  <a:srgbClr val="333333"/>
                </a:solidFill>
                <a:latin typeface="Courier New"/>
              </a:rPr>
              <a:t>%s</a:t>
            </a:r>
            <a:endParaRPr b="0" lang="en-US" sz="28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Παράδειγ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printf("%d, %lf, %c, %s\n",</a:t>
            </a:r>
            <a:br>
              <a:rPr sz="2400"/>
            </a:b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, 'a', "hello");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578963"/>
              </a:buClr>
              <a:buSzPct val="80000"/>
              <a:buFont typeface="Monotype Sorts" charset="2"/>
              <a:buChar char=""/>
              <a:tabLst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3200" spc="-1" strike="noStrike">
                <a:solidFill>
                  <a:srgbClr val="003366"/>
                </a:solidFill>
                <a:latin typeface="Times New Roman"/>
              </a:rPr>
              <a:t>Αποτέλεσμα</a:t>
            </a:r>
            <a:endParaRPr b="0" lang="en-US" sz="3200" spc="-1" strike="noStrike">
              <a:solidFill>
                <a:srgbClr val="003366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26622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33"/>
                </a:solidFill>
                <a:latin typeface="Courier New"/>
              </a:rPr>
              <a:t>42, 1.200000, a, hello</a:t>
            </a:r>
            <a:endParaRPr b="0" lang="en-US" sz="2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3T16:28:41Z</dcterms:created>
  <dc:creator>Nikolaos S. Papaspyrou</dc:creator>
  <dc:description/>
  <dc:language>en-US</dc:language>
  <cp:lastModifiedBy>Nikolaos S. Papaspyrou</cp:lastModifiedBy>
  <cp:lastPrinted>2000-02-14T22:10:23Z</cp:lastPrinted>
  <dcterms:modified xsi:type="dcterms:W3CDTF">2002-03-08T22:01:25Z</dcterms:modified>
  <cp:revision>30</cp:revision>
  <dc:subject>Προγραμματιστικές Τεχνικές</dc:subject>
  <dc:title>Διαφάνειες παρουσίασης</dc:title>
</cp:coreProperties>
</file>