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5BAF-9BB7-4052-812D-453488E89306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1280" y="457200"/>
            <a:ext cx="55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ΠΡΟΓΡΑΜΜΑΤΙΣΤΙΚΕΣ ΤΕΧΝΙ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44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δάσκοντες: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Γιάννης Μαΐστρ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maistros@cs.ntua.gr)</a:t>
            </a:r>
            <a:br>
              <a:rPr sz="28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άθης Ζάχ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zachos@cs.ntua.gr)</a:t>
            </a:r>
            <a:br>
              <a:rPr sz="32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nickie@softlab.ntua.g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1440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Tahoma"/>
              </a:rPr>
              <a:t>http://www.softlab.ntua.gr/~nickie/Courses/progtech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0297-91E6-4ECC-BA82-B33290A64D1D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1 (α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Ιστορία και γενικά χαρακτηριστικά της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ello world!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κτέλεση προγραμμάτ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Η ιστορία της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Times New Roman"/>
              </a:rPr>
              <a:t>1969-1973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AT&amp;T Bell Labs, Dennis Ritchi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19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0000"/>
                </a:solidFill>
                <a:latin typeface="Times New Roman"/>
              </a:rPr>
              <a:t>1978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“The C Programming Language”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K&amp;R: Kernighan &amp; Ritchi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19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983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ύσταση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NSI Standardization Committee X3J1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19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989-1990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δοχή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NSI/ISO Standard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ANSI C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1998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990-1999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ναθεώρηση του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tandard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υπό εξέλιξη — C9X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C99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Χαρακτηριστικά της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Γλώσσα προστακτικού προγραμματισμού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Γλώσσα μετρίου επιπέδ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Οικονομία στην έκφραση</a:t>
            </a:r>
            <a:br>
              <a:rPr sz="3200"/>
            </a:b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(λιτή και περιεκτική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χετικά χαλαρό σύστημα τύπ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Φιλοσοφία: </a:t>
            </a:r>
            <a:r>
              <a:rPr b="0" lang="el-GR" sz="3200" spc="-1" strike="noStrike">
                <a:solidFill>
                  <a:srgbClr val="ff0000"/>
                </a:solidFill>
                <a:latin typeface="Times New Roman"/>
              </a:rPr>
              <a:t>ο προγραμματιστής έχει πλήρη έλεγχο και ευθύνεται για τα σφάλματά το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Χαρακτηριστικά της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Ιδιαίτερα δημοφιλής στην πράξ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χει χρησιμοποιηθεί για τον προγραμματισμό ευρέως φάσματος συστημάτων και εφαρμογ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Έχει χρησιμοποιηθεί ως βάση για πληθώρα άλλων γλωσσών: </a:t>
            </a:r>
            <a:r>
              <a:rPr b="0" lang="el-GR" sz="3200" spc="-1" strike="noStrike">
                <a:solidFill>
                  <a:srgbClr val="ff0000"/>
                </a:solidFill>
                <a:latin typeface="Times New Roman"/>
              </a:rPr>
              <a:t>C++, Jav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Hello world!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Hello world!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ατηρήσει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Η επικοινωνία με τον «έξω» κόσμο γίνεται μέσω της </a:t>
            </a:r>
            <a:r>
              <a:rPr b="0" lang="el-GR" sz="2800" spc="-1" strike="noStrike">
                <a:solidFill>
                  <a:srgbClr val="ff0000"/>
                </a:solidFill>
                <a:latin typeface="Times New Roman"/>
              </a:rPr>
              <a:t>βιβλιοθήκης συναρτήσεω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Το σημείο έναρξης του προγράμματος είναι η «κύρια» συνάρτηση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κτέλεση προγραμμάτ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1120" y="2209680"/>
            <a:ext cx="129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Πηγαίος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κώδικας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ourc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8120" y="1905120"/>
            <a:ext cx="2514600" cy="99036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Times New Roman"/>
              </a:rPr>
              <a:t>Μεταγλωττιστής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 (compile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4952880"/>
            <a:ext cx="1676520" cy="990720"/>
          </a:xfrm>
          <a:prstGeom prst="rect">
            <a:avLst/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Times New Roman"/>
              </a:rPr>
              <a:t>Συνδέτης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(linke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27280" y="4356000"/>
            <a:ext cx="1709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Βιβλιοθήκη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library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55640" y="1589040"/>
            <a:ext cx="193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Αρχεία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επικεφαλίδας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header files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6280" y="3429000"/>
            <a:ext cx="106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Object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cod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240" y="4255920"/>
            <a:ext cx="17582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Εκτελέσιμο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πρόγραμμα</a:t>
            </a:r>
            <a:br>
              <a:rPr sz="2400"/>
            </a:br>
            <a:r>
              <a:rPr b="1" lang="el-GR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ecutable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2133720"/>
            <a:ext cx="106704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2895480"/>
            <a:ext cx="380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190760" y="4191120"/>
            <a:ext cx="533160" cy="761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285640" y="5562720"/>
            <a:ext cx="1066680" cy="228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562720" y="1828800"/>
            <a:ext cx="761760" cy="5335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028840" y="5334120"/>
            <a:ext cx="1219320" cy="1522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1523880"/>
            <a:ext cx="1295280" cy="7621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hello.c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581280"/>
            <a:ext cx="1295280" cy="7621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hello.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5486400"/>
            <a:ext cx="1295280" cy="76212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hell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4952880"/>
            <a:ext cx="1295640" cy="7621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printf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5880" y="1295280"/>
            <a:ext cx="1295640" cy="762120"/>
          </a:xfrm>
          <a:prstGeom prst="ellipse">
            <a:avLst/>
          </a:prstGeom>
          <a:solidFill>
            <a:srgbClr val="c0c0c0"/>
          </a:solidFill>
          <a:ln w="158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33"/>
                </a:solidFill>
                <a:latin typeface="Times New Roman"/>
              </a:rPr>
              <a:t>stdio.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2-03-08T22:01:07Z</dcterms:modified>
  <cp:revision>27</cp:revision>
  <dc:subject>Προγραμματιστικές Τεχνικές</dc:subject>
  <dc:title>Διαφάνειες παρουσίασης</dc:title>
</cp:coreProperties>
</file>