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41E9-131F-41F9-8415-AF4E9D10CAC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BF8-25AF-4E76-8B07-848E0A64148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9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 σε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αριθμητικών εκφρ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σταθερ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Const (double consta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constant = 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τελεστών με δύο τελού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Binop (expr arg1, char 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arg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bin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op = 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1 = arg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2 = arg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κατασκευ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κφραση: </a:t>
            </a:r>
            <a:r>
              <a:rPr b="1" lang="el-GR" sz="2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 * (24 / 2) + (9 - 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4120" y="2795760"/>
            <a:ext cx="3504600" cy="2691000"/>
            <a:chOff x="5334120" y="2795760"/>
            <a:chExt cx="3504600" cy="2691000"/>
          </a:xfrm>
        </p:grpSpPr>
        <p:sp>
          <p:nvSpPr>
            <p:cNvPr id="111" name=""/>
            <p:cNvSpPr/>
            <p:nvPr/>
          </p:nvSpPr>
          <p:spPr>
            <a:xfrm>
              <a:off x="6750000" y="2795760"/>
              <a:ext cx="673920" cy="35424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1640" y="28224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6080" y="355644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8320" y="35827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4640" y="3556440"/>
              <a:ext cx="672840" cy="35388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49880" y="35827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4120" y="436752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388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444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2292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50000" y="509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07040" y="512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06080" y="509400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76720" y="5120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732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394160"/>
              <a:ext cx="14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43040" y="3150000"/>
              <a:ext cx="1887120" cy="40608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30160" y="391032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1800" y="3910320"/>
              <a:ext cx="943200" cy="45720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43040" y="4721760"/>
              <a:ext cx="943200" cy="37188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231320" y="437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479000" y="440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566120" y="391680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,'*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4), '/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, '+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9), '-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ή έκφρ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Free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Print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g", e-&gt;data.constan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%c", e-&gt;data.u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c", e-&gt;data.bi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exprCalc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-&gt;data.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u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bi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+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συναρτή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(*p)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(*p)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(*q) (double) = &amp;sqr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κτες ισοδύναμοι με συναρτ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p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λοκλήρωση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integral (double a, double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(*f) (double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ouble step = 1e-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resul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x=a; x&lt;=b; x += ste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+= f(x) * ste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integral(0, 3.14159, s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66360" y="2819520"/>
            <a:ext cx="16941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κ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γόριθμος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εδομέν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ύ βρίσκο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όσα είν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iz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μέγεθος έχει καθέ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arison f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ώς γίνεται η σύγκρι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σύγκριση τ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int (*comparison) (void * x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bsort (void * a, int 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mparison f, int siz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n-1; j &gt; i;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x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j-1)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y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j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(px, py) &gt; 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k = 0; k &lt; size; k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temp = *p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x++ = *p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y++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σύγκρισης για ακέραι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ntcompare (void * x, void *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*((int *) x) - *((int *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ήση για πίνακ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[] = { 44, 55, 12, 42,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sort(x, n, intcompare,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αριθμητικών εκφρά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Έκφρ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δυαδικό δένδρο ειδικής μορφ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μβοι τριών ειδ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ητικές σταθερές (φύλλ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ένα τελού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δύο 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ή σταθεράς, 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μβολο τελε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μο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όμβος δένδρ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Expr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um { EXP_const, EXP_un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_binop 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cod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constant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u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1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,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2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bi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data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ExprNode, *exp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22T20:01:44Z</dcterms:modified>
  <cp:revision>60</cp:revision>
  <dc:subject>Προγραμματιστικές Τεχνικές</dc:subject>
  <dc:title>Διαφάνειες παρουσίασης</dc:title>
</cp:coreProperties>
</file>