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2708-D8B6-4A24-B8EB-F4E3999B1A88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631E-C57B-41C8-B33E-34781FAF529C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8 (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β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ένδρα γενικής μορφή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άσχιση δυαδικών δένδρ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ριθμητικές εκφρά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υαδικά δένδρα αναζήτηση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πιθεματικ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ράστα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tfix not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τελεστής μετά τ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χι διφορούμενη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 χρειάζονται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ενθέ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λή μηχανικ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οτίμη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3 24 2 / * 9 3 - +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249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 αναζήτη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Binary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arch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tre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αδικά δένδρα με τις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κάτω ιδιότητες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ια κάθε κόμβο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λοι οι κόμβοι του</a:t>
            </a:r>
            <a:br>
              <a:rPr sz="2800"/>
            </a:br>
            <a:r>
              <a:rPr b="0" lang="el-GR" sz="2800" spc="-1" strike="noStrike">
                <a:solidFill>
                  <a:srgbClr val="004c2b"/>
                </a:solidFill>
                <a:latin typeface="Times New Roman"/>
              </a:rPr>
              <a:t>αριστερού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ιδιού έχουν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ιμέ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ικρότερες ή ίσε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ς τιμής τ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λοι οι κόμβοι του</a:t>
            </a:r>
            <a:br>
              <a:rPr sz="2800"/>
            </a:br>
            <a:r>
              <a:rPr b="0" lang="el-GR" sz="2800" spc="-1" strike="noStrike">
                <a:solidFill>
                  <a:srgbClr val="004c2b"/>
                </a:solidFill>
                <a:latin typeface="Times New Roman"/>
              </a:rPr>
              <a:t>δεξιού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ιδιού έχουν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ιμέ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εγαλύτερες ή ίσε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ς τιμής τ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638680" y="1905120"/>
            <a:ext cx="3124440" cy="4419360"/>
            <a:chOff x="5638680" y="1905120"/>
            <a:chExt cx="3124440" cy="4419360"/>
          </a:xfrm>
        </p:grpSpPr>
        <p:sp>
          <p:nvSpPr>
            <p:cNvPr id="275" name=""/>
            <p:cNvSpPr/>
            <p:nvPr/>
          </p:nvSpPr>
          <p:spPr>
            <a:xfrm>
              <a:off x="5638680" y="2262240"/>
              <a:ext cx="3124440" cy="406224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5943600" y="3402000"/>
              <a:ext cx="685440" cy="569880"/>
              <a:chOff x="5943600" y="3402000"/>
              <a:chExt cx="685440" cy="569880"/>
            </a:xfrm>
          </p:grpSpPr>
          <p:sp>
            <p:nvSpPr>
              <p:cNvPr id="277" name=""/>
              <p:cNvSpPr/>
              <p:nvPr/>
            </p:nvSpPr>
            <p:spPr>
              <a:xfrm rot="5400000">
                <a:off x="600120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594360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8632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324480" y="3900600"/>
              <a:ext cx="381240" cy="285480"/>
              <a:chOff x="6324480" y="3900600"/>
              <a:chExt cx="381240" cy="28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514920" y="3900600"/>
                <a:ext cx="0" cy="1900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324480" y="40906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78840" y="4138200"/>
                <a:ext cx="272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433560" y="41860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867280" y="3900600"/>
              <a:ext cx="381240" cy="285480"/>
              <a:chOff x="5867280" y="3900600"/>
              <a:chExt cx="381240" cy="285480"/>
            </a:xfrm>
          </p:grpSpPr>
          <p:sp>
            <p:nvSpPr>
              <p:cNvPr id="286" name=""/>
              <p:cNvSpPr/>
              <p:nvPr/>
            </p:nvSpPr>
            <p:spPr>
              <a:xfrm>
                <a:off x="6057720" y="3900600"/>
                <a:ext cx="0" cy="1900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867280" y="40906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921640" y="4138200"/>
                <a:ext cx="272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976360" y="41860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7848720" y="5326200"/>
              <a:ext cx="685440" cy="571320"/>
              <a:chOff x="7848720" y="5326200"/>
              <a:chExt cx="685440" cy="57132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7905600" y="5268960"/>
                <a:ext cx="57132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7848720" y="561204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191440" y="5612040"/>
                <a:ext cx="0" cy="2854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8229600" y="5826240"/>
              <a:ext cx="380880" cy="284040"/>
              <a:chOff x="8229600" y="5826240"/>
              <a:chExt cx="380880" cy="284040"/>
            </a:xfrm>
          </p:grpSpPr>
          <p:sp>
            <p:nvSpPr>
              <p:cNvPr id="295" name=""/>
              <p:cNvSpPr/>
              <p:nvPr/>
            </p:nvSpPr>
            <p:spPr>
              <a:xfrm>
                <a:off x="8420040" y="5826240"/>
                <a:ext cx="0" cy="189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229600" y="601524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839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3383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7772400" y="5826240"/>
              <a:ext cx="380880" cy="284040"/>
              <a:chOff x="7772400" y="5826240"/>
              <a:chExt cx="380880" cy="284040"/>
            </a:xfrm>
          </p:grpSpPr>
          <p:sp>
            <p:nvSpPr>
              <p:cNvPr id="300" name=""/>
              <p:cNvSpPr/>
              <p:nvPr/>
            </p:nvSpPr>
            <p:spPr>
              <a:xfrm>
                <a:off x="7962840" y="5826240"/>
                <a:ext cx="0" cy="189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772400" y="601524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8267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811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6477120" y="4400640"/>
              <a:ext cx="685440" cy="569880"/>
              <a:chOff x="6477120" y="4400640"/>
              <a:chExt cx="685440" cy="569880"/>
            </a:xfrm>
          </p:grpSpPr>
          <p:sp>
            <p:nvSpPr>
              <p:cNvPr id="305" name=""/>
              <p:cNvSpPr/>
              <p:nvPr/>
            </p:nvSpPr>
            <p:spPr>
              <a:xfrm rot="5400000">
                <a:off x="6534720" y="434268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6477120" y="468576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819840" y="468576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858000" y="4898880"/>
              <a:ext cx="380880" cy="285840"/>
              <a:chOff x="6858000" y="4898880"/>
              <a:chExt cx="380880" cy="285840"/>
            </a:xfrm>
          </p:grpSpPr>
          <p:sp>
            <p:nvSpPr>
              <p:cNvPr id="309" name=""/>
              <p:cNvSpPr/>
              <p:nvPr/>
            </p:nvSpPr>
            <p:spPr>
              <a:xfrm>
                <a:off x="7048440" y="4898880"/>
                <a:ext cx="0" cy="19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58000" y="5089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912360" y="513684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966720" y="5184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400800" y="4898880"/>
              <a:ext cx="380880" cy="285840"/>
              <a:chOff x="6400800" y="4898880"/>
              <a:chExt cx="380880" cy="285840"/>
            </a:xfrm>
          </p:grpSpPr>
          <p:sp>
            <p:nvSpPr>
              <p:cNvPr id="314" name=""/>
              <p:cNvSpPr/>
              <p:nvPr/>
            </p:nvSpPr>
            <p:spPr>
              <a:xfrm>
                <a:off x="6591240" y="4898880"/>
                <a:ext cx="0" cy="19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400800" y="5089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55160" y="513684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509520" y="5184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7543800" y="4400640"/>
              <a:ext cx="685440" cy="569880"/>
              <a:chOff x="7543800" y="4400640"/>
              <a:chExt cx="685440" cy="569880"/>
            </a:xfrm>
          </p:grpSpPr>
          <p:sp>
            <p:nvSpPr>
              <p:cNvPr id="319" name=""/>
              <p:cNvSpPr/>
              <p:nvPr/>
            </p:nvSpPr>
            <p:spPr>
              <a:xfrm rot="5400000">
                <a:off x="7601400" y="434268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7543800" y="468576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886520" y="468576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467480" y="4898880"/>
              <a:ext cx="381240" cy="285840"/>
              <a:chOff x="7467480" y="4898880"/>
              <a:chExt cx="381240" cy="285840"/>
            </a:xfrm>
          </p:grpSpPr>
          <p:sp>
            <p:nvSpPr>
              <p:cNvPr id="323" name=""/>
              <p:cNvSpPr/>
              <p:nvPr/>
            </p:nvSpPr>
            <p:spPr>
              <a:xfrm>
                <a:off x="7657920" y="4898880"/>
                <a:ext cx="0" cy="19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467480" y="508932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521840" y="5136840"/>
                <a:ext cx="272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576560" y="5184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7010280" y="3402000"/>
              <a:ext cx="685440" cy="569880"/>
              <a:chOff x="7010280" y="3402000"/>
              <a:chExt cx="685440" cy="569880"/>
            </a:xfrm>
          </p:grpSpPr>
          <p:sp>
            <p:nvSpPr>
              <p:cNvPr id="328" name=""/>
              <p:cNvSpPr/>
              <p:nvPr/>
            </p:nvSpPr>
            <p:spPr>
              <a:xfrm rot="5400000">
                <a:off x="706788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701028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5300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6477120" y="2475000"/>
              <a:ext cx="685440" cy="569880"/>
              <a:chOff x="6477120" y="2475000"/>
              <a:chExt cx="685440" cy="569880"/>
            </a:xfrm>
          </p:grpSpPr>
          <p:sp>
            <p:nvSpPr>
              <p:cNvPr id="332" name=""/>
              <p:cNvSpPr/>
              <p:nvPr/>
            </p:nvSpPr>
            <p:spPr>
              <a:xfrm rot="5400000">
                <a:off x="6534720" y="2417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6477120" y="2760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819840" y="2760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flipH="1">
              <a:off x="6248520" y="2975040"/>
              <a:ext cx="380880" cy="426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010280" y="2975040"/>
              <a:ext cx="304920" cy="426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857640" y="3900600"/>
              <a:ext cx="304920" cy="5000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43800" y="3900600"/>
              <a:ext cx="304920" cy="5000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77320" y="4898880"/>
              <a:ext cx="152280" cy="4273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81680" y="1905120"/>
              <a:ext cx="0" cy="569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54880" y="2387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16760" y="3314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13600" y="3314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4160" y="4305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51680" y="5232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80080" y="4305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 αναζήτη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 δυαδικά δένδρα αναζήτησης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ευκολύνουν την αναζήτησ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δρομική αναζήτ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 η τιμή που ζητείται είναι στη ρίζα, βρέθηκ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 είναι μικρότερη από την τιμή της ρίζας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κεί να αναζητηθεί στο αριστερό παιδ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 είναι μεγαλύτερη από την τιμή της ρίζας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κεί να αναζητηθεί στο δεξί παιδ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όστος αναζήτησης: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(log </a:t>
            </a:r>
            <a:r>
              <a:rPr b="0" i="1" lang="en-US" sz="32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πό την προϋπόθεση το δένδρο να είναι ισοζυγισμέν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 αναζήτη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ζήτ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reeNode * treeSearch (tree t, int ke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NULL;     /* not found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t-&gt;data == ke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t;        /* found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t-&gt;data &gt; ke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treeSearch(t-&gt;left, ke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treeSearch(t-&gt;right, ke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ένδρα γενικής μορφή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κόμβος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χει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3366"/>
                </a:solidFill>
                <a:latin typeface="Times New Roman"/>
              </a:rPr>
              <a:t>k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γόνους,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που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</a:t>
            </a:r>
            <a:r>
              <a:rPr b="1" lang="el-GR" sz="3200" spc="-1" strike="noStrike">
                <a:solidFill>
                  <a:srgbClr val="003366"/>
                </a:solidFill>
                <a:latin typeface="Times New Roman"/>
              </a:rPr>
              <a:t>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71640" y="2841480"/>
            <a:ext cx="4084560" cy="2171880"/>
            <a:chOff x="971640" y="2841480"/>
            <a:chExt cx="4084560" cy="2171880"/>
          </a:xfrm>
        </p:grpSpPr>
        <p:sp>
          <p:nvSpPr>
            <p:cNvPr id="90" name=""/>
            <p:cNvSpPr/>
            <p:nvPr/>
          </p:nvSpPr>
          <p:spPr>
            <a:xfrm flipH="1">
              <a:off x="1957680" y="3273480"/>
              <a:ext cx="107928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36960" y="32734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36960" y="3273480"/>
              <a:ext cx="108108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403640" y="4136760"/>
              <a:ext cx="50472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8360" y="4136760"/>
              <a:ext cx="50472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05320" y="284148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46600" y="28749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5680" y="37051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65520" y="37386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05320" y="37051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720" y="37386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7680" y="37051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00760" y="37386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08440" y="456876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49720" y="46022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71640" y="456876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11480" y="46022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13440" y="4138560"/>
              <a:ext cx="431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13440" y="45702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52920" y="46036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4360" y="511164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5516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ωδικοποίηση με δυαδικά δένδρ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076720" y="1844640"/>
            <a:ext cx="3598920" cy="3661920"/>
            <a:chOff x="5076720" y="1844640"/>
            <a:chExt cx="3598920" cy="3661920"/>
          </a:xfrm>
        </p:grpSpPr>
        <p:sp>
          <p:nvSpPr>
            <p:cNvPr id="113" name=""/>
            <p:cNvSpPr/>
            <p:nvPr/>
          </p:nvSpPr>
          <p:spPr>
            <a:xfrm flipH="1">
              <a:off x="7040520" y="2265480"/>
              <a:ext cx="50472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7762680" y="4702320"/>
              <a:ext cx="50292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80080" y="3921120"/>
              <a:ext cx="53208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88160" y="3921120"/>
              <a:ext cx="57636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537240" y="3129120"/>
              <a:ext cx="50328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40520" y="3129120"/>
              <a:ext cx="57636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12160" y="184464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53440" y="18781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08880" y="270828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48360" y="27417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56520" y="348948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77280" y="35226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32880" y="428148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67680" y="43210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26120" y="348948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67400" y="35226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29600" y="506268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88160" y="5140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80160" y="428148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21440" y="43210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76720" y="3429000"/>
              <a:ext cx="647640" cy="358920"/>
            </a:xfrm>
            <a:prstGeom prst="rightArrow">
              <a:avLst>
                <a:gd name="adj1" fmla="val 50000"/>
                <a:gd name="adj2" fmla="val 45110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ειρά με την οποία διασχίζονται οι κόμβο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ά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βάθο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epth firs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ά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λάτο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breadth firs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81360" y="2219400"/>
            <a:ext cx="4381560" cy="3316320"/>
            <a:chOff x="4581360" y="2219400"/>
            <a:chExt cx="4381560" cy="3316320"/>
          </a:xfrm>
        </p:grpSpPr>
        <p:sp>
          <p:nvSpPr>
            <p:cNvPr id="137" name=""/>
            <p:cNvSpPr/>
            <p:nvPr/>
          </p:nvSpPr>
          <p:spPr>
            <a:xfrm>
              <a:off x="6351480" y="2219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08880" y="22525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72120" y="317016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28080" y="32036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32640" y="3170160"/>
              <a:ext cx="841320" cy="44316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88600" y="32036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81360" y="418464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02120" y="42181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20160" y="418464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79000" y="4218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32640" y="5092560"/>
              <a:ext cx="841320" cy="44316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6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88600" y="51260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51480" y="5092560"/>
              <a:ext cx="84312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08880" y="51260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72120" y="509256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28080" y="51260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61080" y="418464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19920" y="4218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92600" y="266220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51680" y="3613320"/>
              <a:ext cx="59220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3640" y="3613320"/>
              <a:ext cx="1179720" cy="57132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92600" y="4627440"/>
              <a:ext cx="117972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7951320" y="4627440"/>
              <a:ext cx="59220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85800" y="3048120"/>
            <a:ext cx="37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τά βάθο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42, 10, 7, 14, 12, 30, 50, 55, 5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τά πλάτο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42, 10, 50, 7, 14, 55, 12, 30, 5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κατά βάθ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λύ απλά, με χρήση αναδρομ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treePrintDF (tree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t !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d ", t-&gt;dat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reePrintDF(t-&gt;lef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reePrintDF(t-&gt;righ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κατά πλάτ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τη βοήθει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υρά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για την αποθήκευση δεικτών προς τους κόμβους που δεν έχουμε επισκεφθε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treePrintBF (tree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ueue q = queue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t !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ueueInsert(&amp;q,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κατά πλάτος, υλοποίηση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!queueIsEmpty(q)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reeNode * n = queueRemove(&amp;q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d ", n-&gt;dat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-&gt;left !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ueueInsert(&amp;q, n-&gt;lef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-&gt;right !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ueueInsert(&amp;q, n-&gt;righ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3 * (24 / 2) + (9 - 3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σταση σε μορφή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αδικού δένδρ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ριθμοί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α φύλλ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ελεστέ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στου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πόλοιπους κόμβ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170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8580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άσχιση κατά βάθο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νθεματικ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ράστα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fix not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τελεστής ανάμεσα στ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φορούμενη: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ειάζονται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ενθέ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συνήθης μορφ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τον άνθρωπ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3 * (24 / 2)) + (9 - 3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197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Προθεματικ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ράστα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fix not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τελεστής πριν τ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χι διφορούμενη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 χρειάζονται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ενθέ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λή μηχανικ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άγνω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+ * 3 / 24 2 - 9 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223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5-20T06:21:11Z</dcterms:modified>
  <cp:revision>61</cp:revision>
  <dc:subject>Προγραμματιστικές Τεχνικές</dc:subject>
  <dc:title>Διαφάνειες παρουσίασης</dc:title>
</cp:coreProperties>
</file>