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0B03-4023-4E5D-9914-50A5001F4237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9635-D989-4AA7-B1B1-DB0D401DC37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8 (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υαδικά δένδρ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Ισοζυγισμένα δυαδικά δένδρ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Binary tre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ο σύνδεσμοι σε κάθε κόμβ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αριστερό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εξί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παιδί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638680" y="1905120"/>
            <a:ext cx="3124080" cy="4419000"/>
            <a:chOff x="5638680" y="1905120"/>
            <a:chExt cx="3124080" cy="4419000"/>
          </a:xfrm>
        </p:grpSpPr>
        <p:sp>
          <p:nvSpPr>
            <p:cNvPr id="90" name=""/>
            <p:cNvSpPr/>
            <p:nvPr/>
          </p:nvSpPr>
          <p:spPr>
            <a:xfrm>
              <a:off x="5638680" y="2261160"/>
              <a:ext cx="3124080" cy="406296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943600" y="3402000"/>
              <a:ext cx="685440" cy="569880"/>
              <a:chOff x="5943600" y="3402000"/>
              <a:chExt cx="685440" cy="569880"/>
            </a:xfrm>
          </p:grpSpPr>
          <p:sp>
            <p:nvSpPr>
              <p:cNvPr id="92" name=""/>
              <p:cNvSpPr/>
              <p:nvPr/>
            </p:nvSpPr>
            <p:spPr>
              <a:xfrm rot="5400000">
                <a:off x="600120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594360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28632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324480" y="3900600"/>
              <a:ext cx="380880" cy="285120"/>
              <a:chOff x="6324480" y="3900600"/>
              <a:chExt cx="380880" cy="285120"/>
            </a:xfrm>
          </p:grpSpPr>
          <p:sp>
            <p:nvSpPr>
              <p:cNvPr id="96" name=""/>
              <p:cNvSpPr/>
              <p:nvPr/>
            </p:nvSpPr>
            <p:spPr>
              <a:xfrm>
                <a:off x="6514920" y="390060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324480" y="4090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78840" y="413820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433200" y="4185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867280" y="3900600"/>
              <a:ext cx="380880" cy="285120"/>
              <a:chOff x="5867280" y="3900600"/>
              <a:chExt cx="380880" cy="285120"/>
            </a:xfrm>
          </p:grpSpPr>
          <p:sp>
            <p:nvSpPr>
              <p:cNvPr id="101" name=""/>
              <p:cNvSpPr/>
              <p:nvPr/>
            </p:nvSpPr>
            <p:spPr>
              <a:xfrm>
                <a:off x="6057720" y="390060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7280" y="409032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21640" y="413820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76000" y="418572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848360" y="5326560"/>
              <a:ext cx="685440" cy="569880"/>
              <a:chOff x="7848360" y="5326560"/>
              <a:chExt cx="685440" cy="569880"/>
            </a:xfrm>
          </p:grpSpPr>
          <p:sp>
            <p:nvSpPr>
              <p:cNvPr id="106" name=""/>
              <p:cNvSpPr/>
              <p:nvPr/>
            </p:nvSpPr>
            <p:spPr>
              <a:xfrm rot="5400000">
                <a:off x="7905960" y="5268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7848360" y="5611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191080" y="5611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8229600" y="5825160"/>
              <a:ext cx="380880" cy="285120"/>
              <a:chOff x="8229600" y="5825160"/>
              <a:chExt cx="380880" cy="285120"/>
            </a:xfrm>
          </p:grpSpPr>
          <p:sp>
            <p:nvSpPr>
              <p:cNvPr id="110" name=""/>
              <p:cNvSpPr/>
              <p:nvPr/>
            </p:nvSpPr>
            <p:spPr>
              <a:xfrm>
                <a:off x="8420040" y="582516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229600" y="601488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2839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3383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772400" y="5825160"/>
              <a:ext cx="380880" cy="285120"/>
              <a:chOff x="7772400" y="5825160"/>
              <a:chExt cx="380880" cy="285120"/>
            </a:xfrm>
          </p:grpSpPr>
          <p:sp>
            <p:nvSpPr>
              <p:cNvPr id="115" name=""/>
              <p:cNvSpPr/>
              <p:nvPr/>
            </p:nvSpPr>
            <p:spPr>
              <a:xfrm>
                <a:off x="7962840" y="582516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772400" y="601488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826760" y="606276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81120" y="611028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476760" y="4399560"/>
              <a:ext cx="685440" cy="569880"/>
              <a:chOff x="6476760" y="4399560"/>
              <a:chExt cx="685440" cy="569880"/>
            </a:xfrm>
          </p:grpSpPr>
          <p:sp>
            <p:nvSpPr>
              <p:cNvPr id="120" name=""/>
              <p:cNvSpPr/>
              <p:nvPr/>
            </p:nvSpPr>
            <p:spPr>
              <a:xfrm rot="5400000">
                <a:off x="6534360" y="4341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6476760" y="4684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19480" y="4684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858000" y="4898880"/>
              <a:ext cx="380880" cy="284760"/>
              <a:chOff x="6858000" y="4898880"/>
              <a:chExt cx="380880" cy="284760"/>
            </a:xfrm>
          </p:grpSpPr>
          <p:sp>
            <p:nvSpPr>
              <p:cNvPr id="124" name=""/>
              <p:cNvSpPr/>
              <p:nvPr/>
            </p:nvSpPr>
            <p:spPr>
              <a:xfrm>
                <a:off x="704844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5800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1236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6672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400800" y="4898880"/>
              <a:ext cx="380880" cy="284760"/>
              <a:chOff x="6400800" y="4898880"/>
              <a:chExt cx="380880" cy="2847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9124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0080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45516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0952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7543800" y="4399560"/>
              <a:ext cx="685440" cy="569880"/>
              <a:chOff x="7543800" y="4399560"/>
              <a:chExt cx="685440" cy="569880"/>
            </a:xfrm>
          </p:grpSpPr>
          <p:sp>
            <p:nvSpPr>
              <p:cNvPr id="134" name=""/>
              <p:cNvSpPr/>
              <p:nvPr/>
            </p:nvSpPr>
            <p:spPr>
              <a:xfrm rot="5400000">
                <a:off x="7601400" y="434160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7543800" y="468468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86520" y="468468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7467480" y="4898880"/>
              <a:ext cx="380880" cy="284760"/>
              <a:chOff x="7467480" y="4898880"/>
              <a:chExt cx="380880" cy="284760"/>
            </a:xfrm>
          </p:grpSpPr>
          <p:sp>
            <p:nvSpPr>
              <p:cNvPr id="138" name=""/>
              <p:cNvSpPr/>
              <p:nvPr/>
            </p:nvSpPr>
            <p:spPr>
              <a:xfrm>
                <a:off x="7657920" y="4898880"/>
                <a:ext cx="0" cy="1897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467480" y="5088600"/>
                <a:ext cx="3808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521840" y="5136120"/>
                <a:ext cx="2718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76200" y="5183640"/>
                <a:ext cx="1630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7010280" y="3402000"/>
              <a:ext cx="685440" cy="569880"/>
              <a:chOff x="7010280" y="3402000"/>
              <a:chExt cx="685440" cy="569880"/>
            </a:xfrm>
          </p:grpSpPr>
          <p:sp>
            <p:nvSpPr>
              <p:cNvPr id="143" name=""/>
              <p:cNvSpPr/>
              <p:nvPr/>
            </p:nvSpPr>
            <p:spPr>
              <a:xfrm rot="5400000">
                <a:off x="7067880" y="3344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7010280" y="3687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53000" y="3687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476760" y="2475000"/>
              <a:ext cx="685440" cy="569880"/>
              <a:chOff x="6476760" y="2475000"/>
              <a:chExt cx="685440" cy="569880"/>
            </a:xfrm>
          </p:grpSpPr>
          <p:sp>
            <p:nvSpPr>
              <p:cNvPr id="147" name=""/>
              <p:cNvSpPr/>
              <p:nvPr/>
            </p:nvSpPr>
            <p:spPr>
              <a:xfrm rot="5400000">
                <a:off x="6534360" y="2417040"/>
                <a:ext cx="569880" cy="6854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6476760" y="2760120"/>
                <a:ext cx="6854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19480" y="2760120"/>
                <a:ext cx="0" cy="2847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 flipH="1">
              <a:off x="6247800" y="2974320"/>
              <a:ext cx="38124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10280" y="2974320"/>
              <a:ext cx="30492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858000" y="3900600"/>
              <a:ext cx="304560" cy="498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3800" y="3900600"/>
              <a:ext cx="304560" cy="498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76960" y="4898880"/>
              <a:ext cx="152640" cy="427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1680" y="1905120"/>
              <a:ext cx="0" cy="569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85800" y="2666880"/>
            <a:ext cx="4724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άθε κόμβος έχει</a:t>
            </a:r>
            <a:br>
              <a:rPr sz="3200"/>
            </a:b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0, 1 ή 2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παιδι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Ρίζ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ο αρχικός κόμβος του δένδρο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Φύλλ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: κόμβοι χωρίς παιδιά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Βάθος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όμβου: αριθμός συνδέσμων από τη ρίζ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κόμβου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TreeNo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Tree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TreeNode_tag * lef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TreeNode_tag * righ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Tree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e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TreeNode * tre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ό δένδρ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tree treeEmpty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δένδ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θοριστική απόφαση: σε ποιο σημείο του δένδρου θα εισαχθεί ο νέος κόμβ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Ισοζυγισμένα δένδρα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lanced trees):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βάθος δυο φύλλων διαφέρει το πολύ κατά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άρτηση μέγιστου βάθ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treeDepth (tree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t == NULL) return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1 + max(treeDepth(t-&gt;left)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Depth(t-&gt;right)); 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ισοζυγισμένα δένδ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treeBalancedInsert (tree * t, int 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*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t = (Tree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malloc(sizeof(Tree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*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*t)-&gt;data =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(*t)-&gt;left = (*t)-&gt;righ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υαδικά δένδρα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ε ισοζυγισμένα δένδρα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1 = treeDepth((*t)-&gt;lef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2 = treeDepth((*t)-&gt;righ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d1 &lt;= d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BalancedInsert(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&amp;((*t)-&gt;left)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reeBalancedInsert(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&amp;((*t)-&gt;right), 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5-17T08:07:09Z</dcterms:modified>
  <cp:revision>55</cp:revision>
  <dc:subject>Προγραμματιστικές Τεχνικές</dc:subject>
  <dc:title>Διαφάνειες παρουσίασης</dc:title>
</cp:coreProperties>
</file>