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ABEE-D8D3-4035-913E-32D19F250D0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23FE-45D6-43AB-ABB2-3756A2D9274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βιβλιοθήκης 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ροεπεξεργαστής 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 και έξοδ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io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ει όλες τις συναρτήσεις εισόδου-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καθορισμένα 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di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είσ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dou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der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 σφαλμάτ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σοδυναμί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...) </a:t>
            </a:r>
            <a:r>
              <a:rPr b="1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fprintf(stdout, ...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canf(...)  </a:t>
            </a:r>
            <a:r>
              <a:rPr b="1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fscanf(stdin, ...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.λ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 διαχείρισης αρχείων με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υχαία πρόσβα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andom ac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χείριση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ring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strlen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έτρηση αριθμού χαρακτήρων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strcpy (char * s1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γραφ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η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strcat (char * s1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 τέλος τη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rcmp (const char * s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γκριση των συμβολοσειρώ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τροπή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atoi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ong int atol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 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atof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υνατή υλοποίηση τη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strcm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rcmp (const char * s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char * s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*s1 == *s2 &amp;&amp; *s1 != '\0'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 s1++; s2++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(*s1)-(*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πόθεση: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οι τιμές του τύπου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στο διάστημα 0-255 (όχι αρνητικές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5120" y="3805200"/>
            <a:ext cx="613188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*s1 &amp;&amp; *s1++ == *s2++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nclu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nclude "myheader.h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de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MAX_CHARS 1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MAX_CHARS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INC(x) ((x)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def,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ndef, #else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end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define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debugging is on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debugging is off\n"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fn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ptimizations allowed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5-12T10:26:03Z</dcterms:modified>
  <cp:revision>56</cp:revision>
  <dc:subject>Προγραμματιστικές Τεχνικές</dc:subject>
  <dc:title>Διαφάνειες παρουσίασης</dc:title>
</cp:coreProperties>
</file>