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2080-52F2-47A7-8C9B-54B15B50E9B6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E586-1C15-48FF-ABB3-21AE59B94C1F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6 (β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Ταξινομημένε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αράμετροι του προγράμματο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ναρτήσεις εισόδου-εξόδου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ναρτήσεις διαχείρισης αρχεί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χαρακτήρ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putchar (int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getchar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συμβολοσειρ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puts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har * gets (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λεγχος τέλους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eof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σταθερά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OF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ριστάνει το τέλος των δεδομένων και έχει τύπο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τιγραφή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χαρακτήρες που διαβάζονται εκτυπώνονται, μέχρι να παρουσιαστεί τέλος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(c = getchar()) != EOF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utchar(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αρ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ILE * f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νοιγμα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ILE * fopen (const char * filename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const char * mod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άμετρος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ode</a:t>
            </a:r>
            <a:br>
              <a:rPr sz="28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άγνωση (read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γγραφή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rite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ροσθήκη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ppend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είμενο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ext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υαδικά δεδομένα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nar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είσιμο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fclose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χαρακτήρ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fputc (int c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fgetc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συμβολοσειρ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fputs (const char * s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har * fgets (char * s, int n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ές συναρτήσεις εισόδου-εξόδ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fprintf (FILE * fp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fscanf (FILE * fp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λεγχος τέλους αρ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feof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πολλών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_t fwrite (const void * p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_t size, size_t num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_t fread (void * p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_t size, size_t num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ακέραιος τύπο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χρησιμοποιείται για τη μέτρηση χώρου μνήμης σ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yte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τιγραφή δυαδικών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main (int argc, char * argv[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ILE * fin, * fou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signed char buffer[100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_t coun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in = fopen(argv[1], "rb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fin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ut = fopen(argv[2], "wb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fou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συνεχίζεται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!feof(fin)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unt = fread(buffer, 1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1000, fi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write(buffer, 1, count, fou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close(fi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close(fou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ομη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sz="3200" spc="-1" strike="noStrike">
                <a:solidFill>
                  <a:srgbClr val="003366"/>
                </a:solidFill>
                <a:latin typeface="Times New Roman"/>
              </a:rPr>
              <a:t>sli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ListNode * sli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slist slistEmpty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slistInsert (s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 = (ListNode *)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ομη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*lp != NULL &amp;&amp; (*lp)-&gt;data &lt;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 = &amp;((*lp)-&gt;nex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next = *l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lp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ομημένες λίστες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slistRemove (s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*lp != NULL &amp;&amp; (*lp)-&gt;data &lt;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 = &amp;((*lp)-&gt;nex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*lp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”%d was not found\n”,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 = *l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lp = (*lp)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μετροι του προγράμματο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πικεφαλίδα του προγράμματ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main (int argc, char * argv[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μετρο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rgc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ο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ιθμός των παραμέτρ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rgv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[i]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-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στή παράμετρ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rgv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[0]</a:t>
            </a:r>
            <a:r>
              <a:rPr b="1" lang="el-GR" sz="28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όνομα του προγράμ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κέραιος αριθμός που επιστρέφεται στο λειτουργικό σύστημ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ήθως 0 για επιτυχή τερματισμ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μετροι του προγράμματο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main (int argc, char * argv[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Program %s called with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"%d parameters:\n", argv[0]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rgc-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i = 1; i &lt; argc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 %s", argv[i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\nand will return 0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ές συναρτήσεις εισόδου-εξόδ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printf (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canf (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δικοί χαρακτήρες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κέραιοι αριθμο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ο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κ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u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ωρίς πρόσημο στο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κ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o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ωρίς πρόσημο στο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οκτ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x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ωρίς πρόσημο στο δεκαεξ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δικοί χαρακτήρες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ιθμοί κινητής υποδιαστολής</a:t>
            </a:r>
            <a:br>
              <a:rPr sz="28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f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ε μορφή: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[-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dd.dddddd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ε μορφή: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[-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dd.dddddd e [+/-]ddd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g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ε μορφή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f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ή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Άλλοι τύποι</a:t>
            </a:r>
            <a:br>
              <a:rPr sz="28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c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αρακτήρε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s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μβολοσειρέ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p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ίκτε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λλαγές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έγεθος αριθμών</a:t>
            </a:r>
            <a:br>
              <a:rPr sz="28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h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οί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shor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.χ.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hd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hx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οί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long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ή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double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.χ.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d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f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οί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ng double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.χ.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ήκος αποτελέσματος</a:t>
            </a:r>
            <a:br>
              <a:rPr sz="28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ός σε μήκος 8 χαρακτήρων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20s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μβολοσειρά σε μήκος 20 χαρακτήρων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+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ός σε μήκος 8 χαρακτήρων μ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+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0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ός σε μήκος 8 χαρακτήρων, τα πρώτα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-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όπως το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8d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 στοίχιση αριστε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4-21T20:47:05Z</dcterms:modified>
  <cp:revision>57</cp:revision>
  <dc:subject>Προγραμματιστικές Τεχνικές</dc:subject>
  <dc:title>Διαφάνειες παρουσίασης</dc:title>
</cp:coreProperties>
</file>