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67067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9222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85800" y="15228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39222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5228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56204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198108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198108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198108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8415360" y="6484680"/>
            <a:ext cx="933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F7CF0-728E-4679-A29F-9C99ABC856F6}" type="slidenum">
              <a:rPr b="0" lang="en-GB" sz="1400" spc="-1" strike="noStrike">
                <a:solidFill>
                  <a:srgbClr val="004c2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8280" y="6484680"/>
            <a:ext cx="84362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ctr" pos="49579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Νίκος Παπασπύρου</a:t>
            </a: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Προγραμματιστικές Τεχνικές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617400" y="1066680"/>
            <a:ext cx="7917120" cy="76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90480" y="3797280"/>
            <a:ext cx="7653600" cy="48564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3048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81280" y="457200"/>
            <a:ext cx="559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ahoma"/>
              </a:rPr>
              <a:t>ΠΡΟΓΡΑΜΜΑΤΙΣΤΙΚΕΣ ΤΕΧΝΙΚΕΣ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1522440"/>
            <a:ext cx="868680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00240" indent="-2100240">
              <a:tabLst>
                <a:tab algn="l" pos="0"/>
                <a:tab algn="l" pos="5140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Διδάσκοντες:</a:t>
            </a: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Γιάννης Μαΐστρος</a:t>
            </a: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l-GR" sz="2400" spc="-1" strike="noStrike">
                <a:solidFill>
                  <a:srgbClr val="660066"/>
                </a:solidFill>
                <a:latin typeface="Tahoma"/>
              </a:rPr>
              <a:t>(maistros@cs.ntua.gr)</a:t>
            </a:r>
            <a:br>
              <a:rPr sz="2800"/>
            </a:b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Στάθης Ζάχος</a:t>
            </a: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l-GR" sz="2400" spc="-1" strike="noStrike">
                <a:solidFill>
                  <a:srgbClr val="660066"/>
                </a:solidFill>
                <a:latin typeface="Tahoma"/>
              </a:rPr>
              <a:t>(zachos@cs.ntua.gr)</a:t>
            </a:r>
            <a:br>
              <a:rPr sz="3200"/>
            </a:b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Νίκος Παπασπύρου</a:t>
            </a: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l-GR" sz="2400" spc="-1" strike="noStrike">
                <a:solidFill>
                  <a:srgbClr val="660066"/>
                </a:solidFill>
                <a:latin typeface="Tahoma"/>
              </a:rPr>
              <a:t>(nickie@softlab.ntua.gr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20280" y="914400"/>
            <a:ext cx="791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333333"/>
                </a:solidFill>
                <a:latin typeface="Tahoma"/>
              </a:rPr>
              <a:t>http://www.softlab.ntua.gr/~nickie/Courses/progtech/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415360" y="6484680"/>
            <a:ext cx="933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5B70E-26B0-45F8-AB65-76197D755DC1}" type="slidenum">
              <a:rPr b="0" lang="en-GB" sz="1400" spc="-1" strike="noStrike">
                <a:solidFill>
                  <a:srgbClr val="004c2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8280" y="6484680"/>
            <a:ext cx="84362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ctr" pos="49579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Νίκος Παπασπύρου</a:t>
            </a: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Προγραμματιστικές Τεχνικές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7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3" marL="1333440" algn="ctr">
              <a:spcBef>
                <a:spcPts val="499"/>
              </a:spcBef>
              <a:buClr>
                <a:srgbClr val="333333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4" marL="1752480" algn="ctr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5" marL="1752480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6" marL="1752480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048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Διαφάνειες παρουσίασης #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6 (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α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434304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3366"/>
                </a:solidFill>
                <a:latin typeface="Times New Roman"/>
              </a:rPr>
              <a:t>Ουρές (επανάληψη και συνέχεια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3366"/>
                </a:solidFill>
                <a:latin typeface="Times New Roman"/>
              </a:rPr>
              <a:t>Στοίβες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3366"/>
                </a:solidFill>
                <a:latin typeface="Times New Roman"/>
              </a:rPr>
              <a:t>Διπλά συνδεδεμένες λίστες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3366"/>
                </a:solidFill>
                <a:latin typeface="Times New Roman"/>
              </a:rPr>
              <a:t>Κυκλικές λίστες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Στοίβε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Last In First Out (LIFO)</a:t>
            </a:r>
            <a:br>
              <a:rPr sz="3200"/>
            </a:b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ό,τι μπαίνει τελευταίο, βγαίνει πρώτο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Στοίβα ακεραίων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333333"/>
                </a:solidFill>
                <a:latin typeface="Times New Roman"/>
              </a:rPr>
              <a:t>ΑΤΔ: </a:t>
            </a:r>
            <a:r>
              <a:rPr b="1" sz="2800" spc="-1" strike="noStrike">
                <a:solidFill>
                  <a:srgbClr val="660066"/>
                </a:solidFill>
                <a:latin typeface="Courier New"/>
              </a:rPr>
              <a:t>stack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const stack stackEmpty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void stackPush (stack * sp, int t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int stackPop (stack * sp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int stackTop (stack s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Στοίβε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Υλοποίηση με απλά συνδεδεμένη λίστα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295280" y="2514600"/>
            <a:ext cx="6019920" cy="2286000"/>
            <a:chOff x="1295280" y="2514600"/>
            <a:chExt cx="6019920" cy="2286000"/>
          </a:xfrm>
        </p:grpSpPr>
        <p:sp>
          <p:nvSpPr>
            <p:cNvPr id="136" name=""/>
            <p:cNvSpPr/>
            <p:nvPr/>
          </p:nvSpPr>
          <p:spPr>
            <a:xfrm>
              <a:off x="2133720" y="2514600"/>
              <a:ext cx="1371600" cy="609480"/>
            </a:xfrm>
            <a:prstGeom prst="rect">
              <a:avLst/>
            </a:prstGeom>
            <a:solidFill>
              <a:srgbClr val="bdd7e5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295280" y="3505320"/>
              <a:ext cx="6019920" cy="1295280"/>
            </a:xfrm>
            <a:prstGeom prst="rect">
              <a:avLst/>
            </a:prstGeom>
            <a:solidFill>
              <a:srgbClr val="f6f9b5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pSp>
          <p:nvGrpSpPr>
            <p:cNvPr id="138" name=""/>
            <p:cNvGrpSpPr/>
            <p:nvPr/>
          </p:nvGrpSpPr>
          <p:grpSpPr>
            <a:xfrm>
              <a:off x="1828800" y="3962520"/>
              <a:ext cx="685800" cy="380880"/>
              <a:chOff x="1828800" y="3962520"/>
              <a:chExt cx="685800" cy="380880"/>
            </a:xfrm>
          </p:grpSpPr>
          <p:sp>
            <p:nvSpPr>
              <p:cNvPr id="139" name=""/>
              <p:cNvSpPr/>
              <p:nvPr/>
            </p:nvSpPr>
            <p:spPr>
              <a:xfrm>
                <a:off x="1828800" y="3962520"/>
                <a:ext cx="685800" cy="380880"/>
              </a:xfrm>
              <a:prstGeom prst="rect">
                <a:avLst/>
              </a:prstGeom>
              <a:solidFill>
                <a:srgbClr val="ffcccc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187200"/>
                    <a:tab algn="r" pos="9525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2171880" y="3962520"/>
                <a:ext cx="0" cy="38088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141" name=""/>
            <p:cNvGrpSpPr/>
            <p:nvPr/>
          </p:nvGrpSpPr>
          <p:grpSpPr>
            <a:xfrm>
              <a:off x="3124080" y="3962520"/>
              <a:ext cx="685800" cy="380880"/>
              <a:chOff x="3124080" y="3962520"/>
              <a:chExt cx="685800" cy="380880"/>
            </a:xfrm>
          </p:grpSpPr>
          <p:sp>
            <p:nvSpPr>
              <p:cNvPr id="142" name=""/>
              <p:cNvSpPr/>
              <p:nvPr/>
            </p:nvSpPr>
            <p:spPr>
              <a:xfrm>
                <a:off x="3124080" y="3962520"/>
                <a:ext cx="685800" cy="380880"/>
              </a:xfrm>
              <a:prstGeom prst="rect">
                <a:avLst/>
              </a:prstGeom>
              <a:solidFill>
                <a:srgbClr val="ffcccc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187200"/>
                    <a:tab algn="r" pos="9525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3467160" y="3962520"/>
                <a:ext cx="0" cy="38088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sp>
          <p:nvSpPr>
            <p:cNvPr id="144" name=""/>
            <p:cNvSpPr/>
            <p:nvPr/>
          </p:nvSpPr>
          <p:spPr>
            <a:xfrm>
              <a:off x="2362320" y="4152960"/>
              <a:ext cx="76176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pSp>
          <p:nvGrpSpPr>
            <p:cNvPr id="145" name=""/>
            <p:cNvGrpSpPr/>
            <p:nvPr/>
          </p:nvGrpSpPr>
          <p:grpSpPr>
            <a:xfrm>
              <a:off x="4419720" y="3962520"/>
              <a:ext cx="685800" cy="380880"/>
              <a:chOff x="4419720" y="3962520"/>
              <a:chExt cx="685800" cy="380880"/>
            </a:xfrm>
          </p:grpSpPr>
          <p:sp>
            <p:nvSpPr>
              <p:cNvPr id="146" name=""/>
              <p:cNvSpPr/>
              <p:nvPr/>
            </p:nvSpPr>
            <p:spPr>
              <a:xfrm>
                <a:off x="4419720" y="3962520"/>
                <a:ext cx="685800" cy="380880"/>
              </a:xfrm>
              <a:prstGeom prst="rect">
                <a:avLst/>
              </a:prstGeom>
              <a:solidFill>
                <a:srgbClr val="ffcccc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187200"/>
                    <a:tab algn="r" pos="9525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4762800" y="3962520"/>
                <a:ext cx="0" cy="38088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sp>
          <p:nvSpPr>
            <p:cNvPr id="148" name=""/>
            <p:cNvSpPr/>
            <p:nvPr/>
          </p:nvSpPr>
          <p:spPr>
            <a:xfrm>
              <a:off x="3657600" y="4152960"/>
              <a:ext cx="76212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pSp>
          <p:nvGrpSpPr>
            <p:cNvPr id="149" name=""/>
            <p:cNvGrpSpPr/>
            <p:nvPr/>
          </p:nvGrpSpPr>
          <p:grpSpPr>
            <a:xfrm>
              <a:off x="5715000" y="3962520"/>
              <a:ext cx="685800" cy="380880"/>
              <a:chOff x="5715000" y="3962520"/>
              <a:chExt cx="685800" cy="380880"/>
            </a:xfrm>
          </p:grpSpPr>
          <p:sp>
            <p:nvSpPr>
              <p:cNvPr id="150" name=""/>
              <p:cNvSpPr/>
              <p:nvPr/>
            </p:nvSpPr>
            <p:spPr>
              <a:xfrm>
                <a:off x="5715000" y="3962520"/>
                <a:ext cx="685800" cy="380880"/>
              </a:xfrm>
              <a:prstGeom prst="rect">
                <a:avLst/>
              </a:prstGeom>
              <a:solidFill>
                <a:srgbClr val="ffcccc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187200"/>
                    <a:tab algn="r" pos="9525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058080" y="3962520"/>
                <a:ext cx="0" cy="38088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52880" y="4152960"/>
              <a:ext cx="76212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pSp>
          <p:nvGrpSpPr>
            <p:cNvPr id="153" name=""/>
            <p:cNvGrpSpPr/>
            <p:nvPr/>
          </p:nvGrpSpPr>
          <p:grpSpPr>
            <a:xfrm>
              <a:off x="6248520" y="4191120"/>
              <a:ext cx="799920" cy="457200"/>
              <a:chOff x="6248520" y="4191120"/>
              <a:chExt cx="799920" cy="457200"/>
            </a:xfrm>
          </p:grpSpPr>
          <p:sp>
            <p:nvSpPr>
              <p:cNvPr id="154" name=""/>
              <p:cNvSpPr/>
              <p:nvPr/>
            </p:nvSpPr>
            <p:spPr>
              <a:xfrm>
                <a:off x="6248520" y="4191120"/>
                <a:ext cx="53316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6781680" y="4191120"/>
                <a:ext cx="0" cy="30456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6515280" y="4495680"/>
                <a:ext cx="533160" cy="0"/>
              </a:xfrm>
              <a:prstGeom prst="line">
                <a:avLst/>
              </a:prstGeom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6591240" y="4572000"/>
                <a:ext cx="381240" cy="0"/>
              </a:xfrm>
              <a:prstGeom prst="line">
                <a:avLst/>
              </a:prstGeom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6667560" y="4648320"/>
                <a:ext cx="228600" cy="0"/>
              </a:xfrm>
              <a:prstGeom prst="line">
                <a:avLst/>
              </a:prstGeom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 flipH="1">
              <a:off x="1980720" y="2971800"/>
              <a:ext cx="838440" cy="99072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255760" y="2590920"/>
              <a:ext cx="1173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33"/>
                  </a:solidFill>
                  <a:latin typeface="Courier New"/>
                </a:rPr>
                <a:t>top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Υλοποίηση στοίβας σε 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C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Τύπος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tack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0560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typedef ListNode * stack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Άδεια στοίβα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0560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const stack stackEmpty = NULL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Εισαγωγή στοιχείου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0560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void stackPush (stack * sp, int t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0560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0560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ListNode * n = (ListNode *)</a:t>
            </a:r>
            <a:br>
              <a:rPr sz="2400"/>
            </a:b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malloc(sizeof(ListNode)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0560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if (n == NULL) 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0560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printf("Out of memory\n"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0560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exit(1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0560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Υλοποίηση στοίβας σε 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C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Εισαγωγή στοιχείου (συνέχεια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0560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n-&gt;data = t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0560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n-&gt;next = *sp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0560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*sp = n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05600" indent="0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Αφαίρεση στοιχείου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0560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int stackPop (stack * sp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0560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05600" indent="0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ListNode * n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0560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int result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0560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if (*sp == NULL) 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0560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printf("Nothing to remove"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0560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 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" from an empty stack\n"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0560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exit(1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05600" indent="0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Υλοποίηση στοίβας σε 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C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Αφαίρεση στοιχείου (συνέχεια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n = *sp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result = (*sp)-&gt;data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*sp = (*sp)-&gt;next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free(n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return result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Υλοποίηση στοίβας σε 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C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v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Εξέταση στοιχείου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int stackTop (stack s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if (s == NULL) 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printf("Nothing to see"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 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" in an empty stack\n"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exit(1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return s-&gt;data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Διπλά συνδεδεμένες λίστε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1752480" y="3581280"/>
            <a:ext cx="6019920" cy="2666880"/>
            <a:chOff x="1752480" y="3581280"/>
            <a:chExt cx="6019920" cy="2666880"/>
          </a:xfrm>
        </p:grpSpPr>
        <p:sp>
          <p:nvSpPr>
            <p:cNvPr id="171" name=""/>
            <p:cNvSpPr/>
            <p:nvPr/>
          </p:nvSpPr>
          <p:spPr>
            <a:xfrm>
              <a:off x="2590560" y="3581280"/>
              <a:ext cx="2362320" cy="609480"/>
            </a:xfrm>
            <a:prstGeom prst="rect">
              <a:avLst/>
            </a:prstGeom>
            <a:solidFill>
              <a:srgbClr val="bdd7e5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752480" y="4571640"/>
              <a:ext cx="6019920" cy="1676520"/>
            </a:xfrm>
            <a:prstGeom prst="rect">
              <a:avLst/>
            </a:prstGeom>
            <a:solidFill>
              <a:srgbClr val="f6f9b5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pSp>
          <p:nvGrpSpPr>
            <p:cNvPr id="173" name=""/>
            <p:cNvGrpSpPr/>
            <p:nvPr/>
          </p:nvGrpSpPr>
          <p:grpSpPr>
            <a:xfrm>
              <a:off x="2286000" y="5028840"/>
              <a:ext cx="685800" cy="381240"/>
              <a:chOff x="2286000" y="5028840"/>
              <a:chExt cx="685800" cy="381240"/>
            </a:xfrm>
          </p:grpSpPr>
          <p:sp>
            <p:nvSpPr>
              <p:cNvPr id="174" name=""/>
              <p:cNvSpPr/>
              <p:nvPr/>
            </p:nvSpPr>
            <p:spPr>
              <a:xfrm>
                <a:off x="2286000" y="5028840"/>
                <a:ext cx="685800" cy="381240"/>
              </a:xfrm>
              <a:prstGeom prst="rect">
                <a:avLst/>
              </a:prstGeom>
              <a:solidFill>
                <a:srgbClr val="ffcccc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187200"/>
                    <a:tab algn="r" pos="9525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2629080" y="5028840"/>
                <a:ext cx="0" cy="38124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176" name=""/>
            <p:cNvGrpSpPr/>
            <p:nvPr/>
          </p:nvGrpSpPr>
          <p:grpSpPr>
            <a:xfrm>
              <a:off x="3581280" y="5028840"/>
              <a:ext cx="685800" cy="381240"/>
              <a:chOff x="3581280" y="5028840"/>
              <a:chExt cx="685800" cy="381240"/>
            </a:xfrm>
          </p:grpSpPr>
          <p:sp>
            <p:nvSpPr>
              <p:cNvPr id="177" name=""/>
              <p:cNvSpPr/>
              <p:nvPr/>
            </p:nvSpPr>
            <p:spPr>
              <a:xfrm>
                <a:off x="3581280" y="5028840"/>
                <a:ext cx="685800" cy="381240"/>
              </a:xfrm>
              <a:prstGeom prst="rect">
                <a:avLst/>
              </a:prstGeom>
              <a:solidFill>
                <a:srgbClr val="ffcccc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187200"/>
                    <a:tab algn="r" pos="9525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3924360" y="5028840"/>
                <a:ext cx="0" cy="38124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sp>
          <p:nvSpPr>
            <p:cNvPr id="179" name=""/>
            <p:cNvSpPr/>
            <p:nvPr/>
          </p:nvSpPr>
          <p:spPr>
            <a:xfrm>
              <a:off x="2819160" y="5130720"/>
              <a:ext cx="76212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pSp>
          <p:nvGrpSpPr>
            <p:cNvPr id="180" name=""/>
            <p:cNvGrpSpPr/>
            <p:nvPr/>
          </p:nvGrpSpPr>
          <p:grpSpPr>
            <a:xfrm>
              <a:off x="4876560" y="5028840"/>
              <a:ext cx="685800" cy="381240"/>
              <a:chOff x="4876560" y="5028840"/>
              <a:chExt cx="685800" cy="381240"/>
            </a:xfrm>
          </p:grpSpPr>
          <p:sp>
            <p:nvSpPr>
              <p:cNvPr id="181" name=""/>
              <p:cNvSpPr/>
              <p:nvPr/>
            </p:nvSpPr>
            <p:spPr>
              <a:xfrm>
                <a:off x="4876560" y="5028840"/>
                <a:ext cx="685800" cy="381240"/>
              </a:xfrm>
              <a:prstGeom prst="rect">
                <a:avLst/>
              </a:prstGeom>
              <a:solidFill>
                <a:srgbClr val="ffcccc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187200"/>
                    <a:tab algn="r" pos="9525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5219640" y="5028840"/>
                <a:ext cx="0" cy="38124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sp>
          <p:nvSpPr>
            <p:cNvPr id="183" name=""/>
            <p:cNvSpPr/>
            <p:nvPr/>
          </p:nvSpPr>
          <p:spPr>
            <a:xfrm>
              <a:off x="4114800" y="5130720"/>
              <a:ext cx="76176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pSp>
          <p:nvGrpSpPr>
            <p:cNvPr id="184" name=""/>
            <p:cNvGrpSpPr/>
            <p:nvPr/>
          </p:nvGrpSpPr>
          <p:grpSpPr>
            <a:xfrm>
              <a:off x="6172200" y="5028840"/>
              <a:ext cx="685800" cy="381240"/>
              <a:chOff x="6172200" y="5028840"/>
              <a:chExt cx="685800" cy="381240"/>
            </a:xfrm>
          </p:grpSpPr>
          <p:sp>
            <p:nvSpPr>
              <p:cNvPr id="185" name=""/>
              <p:cNvSpPr/>
              <p:nvPr/>
            </p:nvSpPr>
            <p:spPr>
              <a:xfrm>
                <a:off x="6172200" y="5028840"/>
                <a:ext cx="685800" cy="381240"/>
              </a:xfrm>
              <a:prstGeom prst="rect">
                <a:avLst/>
              </a:prstGeom>
              <a:solidFill>
                <a:srgbClr val="ffcccc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187200"/>
                    <a:tab algn="r" pos="9525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6515280" y="5028840"/>
                <a:ext cx="0" cy="38124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sp>
          <p:nvSpPr>
            <p:cNvPr id="187" name=""/>
            <p:cNvSpPr/>
            <p:nvPr/>
          </p:nvSpPr>
          <p:spPr>
            <a:xfrm>
              <a:off x="5410080" y="5130720"/>
              <a:ext cx="76212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pSp>
          <p:nvGrpSpPr>
            <p:cNvPr id="188" name=""/>
            <p:cNvGrpSpPr/>
            <p:nvPr/>
          </p:nvGrpSpPr>
          <p:grpSpPr>
            <a:xfrm>
              <a:off x="6705360" y="5130720"/>
              <a:ext cx="799920" cy="457200"/>
              <a:chOff x="6705360" y="5130720"/>
              <a:chExt cx="799920" cy="457200"/>
            </a:xfrm>
          </p:grpSpPr>
          <p:sp>
            <p:nvSpPr>
              <p:cNvPr id="189" name=""/>
              <p:cNvSpPr/>
              <p:nvPr/>
            </p:nvSpPr>
            <p:spPr>
              <a:xfrm>
                <a:off x="6705360" y="5130720"/>
                <a:ext cx="53316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7238520" y="5130720"/>
                <a:ext cx="0" cy="30456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6972120" y="5435280"/>
                <a:ext cx="533160" cy="0"/>
              </a:xfrm>
              <a:prstGeom prst="line">
                <a:avLst/>
              </a:prstGeom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7048080" y="5511600"/>
                <a:ext cx="381240" cy="0"/>
              </a:xfrm>
              <a:prstGeom prst="line">
                <a:avLst/>
              </a:prstGeom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7124400" y="5587920"/>
                <a:ext cx="228600" cy="0"/>
              </a:xfrm>
              <a:prstGeom prst="line">
                <a:avLst/>
              </a:prstGeom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 flipH="1">
              <a:off x="2438280" y="4038480"/>
              <a:ext cx="838080" cy="99036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419360" y="4038480"/>
              <a:ext cx="1905120" cy="99036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713680" y="365724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33"/>
                  </a:solidFill>
                  <a:latin typeface="Courier New"/>
                </a:rPr>
                <a:t>first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963240" y="365724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33"/>
                  </a:solidFill>
                  <a:latin typeface="Courier New"/>
                </a:rPr>
                <a:t>last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654280" y="5219640"/>
              <a:ext cx="30456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949560" y="5219640"/>
              <a:ext cx="30492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244840" y="5219640"/>
              <a:ext cx="30492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540480" y="5219640"/>
              <a:ext cx="30456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pSp>
          <p:nvGrpSpPr>
            <p:cNvPr id="202" name=""/>
            <p:cNvGrpSpPr/>
            <p:nvPr/>
          </p:nvGrpSpPr>
          <p:grpSpPr>
            <a:xfrm>
              <a:off x="2514600" y="5333760"/>
              <a:ext cx="533160" cy="457200"/>
              <a:chOff x="2514600" y="5333760"/>
              <a:chExt cx="533160" cy="457200"/>
            </a:xfrm>
          </p:grpSpPr>
          <p:sp>
            <p:nvSpPr>
              <p:cNvPr id="203" name=""/>
              <p:cNvSpPr/>
              <p:nvPr/>
            </p:nvSpPr>
            <p:spPr>
              <a:xfrm>
                <a:off x="2781000" y="5333760"/>
                <a:ext cx="0" cy="30456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2514600" y="5638320"/>
                <a:ext cx="533160" cy="0"/>
              </a:xfrm>
              <a:prstGeom prst="line">
                <a:avLst/>
              </a:prstGeom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2590560" y="5714640"/>
                <a:ext cx="380520" cy="0"/>
              </a:xfrm>
              <a:prstGeom prst="line">
                <a:avLst/>
              </a:prstGeom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2666880" y="5790960"/>
                <a:ext cx="228240" cy="0"/>
              </a:xfrm>
              <a:prstGeom prst="line">
                <a:avLst/>
              </a:prstGeom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5562000" y="5333400"/>
              <a:ext cx="1143360" cy="305280"/>
              <a:chOff x="5562000" y="5333400"/>
              <a:chExt cx="1143360" cy="305280"/>
            </a:xfrm>
          </p:grpSpPr>
          <p:sp>
            <p:nvSpPr>
              <p:cNvPr id="208" name=""/>
              <p:cNvSpPr/>
              <p:nvPr/>
            </p:nvSpPr>
            <p:spPr>
              <a:xfrm>
                <a:off x="6705360" y="5333760"/>
                <a:ext cx="0" cy="30492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flipH="1">
                <a:off x="5943600" y="5638680"/>
                <a:ext cx="76176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flipV="1">
                <a:off x="5943600" y="5333400"/>
                <a:ext cx="0" cy="30492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flipH="1">
                <a:off x="5562000" y="5333760"/>
                <a:ext cx="38124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212" name=""/>
            <p:cNvGrpSpPr/>
            <p:nvPr/>
          </p:nvGrpSpPr>
          <p:grpSpPr>
            <a:xfrm>
              <a:off x="4266720" y="5333400"/>
              <a:ext cx="1143360" cy="305280"/>
              <a:chOff x="4266720" y="5333400"/>
              <a:chExt cx="1143360" cy="305280"/>
            </a:xfrm>
          </p:grpSpPr>
          <p:sp>
            <p:nvSpPr>
              <p:cNvPr id="213" name=""/>
              <p:cNvSpPr/>
              <p:nvPr/>
            </p:nvSpPr>
            <p:spPr>
              <a:xfrm>
                <a:off x="5410080" y="5333760"/>
                <a:ext cx="0" cy="30492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>
                <a:off x="4648320" y="5638680"/>
                <a:ext cx="76176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flipV="1">
                <a:off x="4648320" y="5333400"/>
                <a:ext cx="0" cy="30492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>
                <a:off x="4266720" y="5333760"/>
                <a:ext cx="38124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217" name=""/>
            <p:cNvGrpSpPr/>
            <p:nvPr/>
          </p:nvGrpSpPr>
          <p:grpSpPr>
            <a:xfrm>
              <a:off x="2971440" y="5333400"/>
              <a:ext cx="1143360" cy="305280"/>
              <a:chOff x="2971440" y="5333400"/>
              <a:chExt cx="1143360" cy="305280"/>
            </a:xfrm>
          </p:grpSpPr>
          <p:sp>
            <p:nvSpPr>
              <p:cNvPr id="218" name=""/>
              <p:cNvSpPr/>
              <p:nvPr/>
            </p:nvSpPr>
            <p:spPr>
              <a:xfrm>
                <a:off x="4114800" y="5333760"/>
                <a:ext cx="0" cy="30492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flipH="1">
                <a:off x="3353040" y="5638680"/>
                <a:ext cx="76176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V="1">
                <a:off x="3353040" y="5333400"/>
                <a:ext cx="0" cy="30492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flipH="1">
                <a:off x="2971440" y="5333760"/>
                <a:ext cx="38124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Επίσης γραμμικές διατάξεις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Δυο σύνδεσμοι σε κάθε κόμβο, προς τον </a:t>
            </a:r>
            <a:r>
              <a:rPr b="0" lang="el-GR" sz="3200" spc="-1" strike="noStrike">
                <a:solidFill>
                  <a:srgbClr val="660066"/>
                </a:solidFill>
                <a:latin typeface="Times New Roman"/>
              </a:rPr>
              <a:t>επόμενο</a:t>
            </a: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 και προς τον </a:t>
            </a:r>
            <a:r>
              <a:rPr b="0" lang="el-GR" sz="3200" spc="-1" strike="noStrike">
                <a:solidFill>
                  <a:srgbClr val="660066"/>
                </a:solidFill>
                <a:latin typeface="Times New Roman"/>
              </a:rPr>
              <a:t>προηγούμενο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Γενική μορφή, π.χ. για υλοποίηση ουράς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Διπλά συνδεδεμένες λίστε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Τύπος κόμβου </a:t>
            </a:r>
            <a:r>
              <a:rPr b="0" sz="3200" spc="-1" strike="noStrike">
                <a:solidFill>
                  <a:srgbClr val="003366"/>
                </a:solidFill>
                <a:latin typeface="Times New Roman"/>
              </a:rPr>
              <a:t>DListNode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279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typedef struct DListNode_tag 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792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int data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792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struct DListNode_tag * next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792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struct DListNode_tag * prev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792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} DListNode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Τύπος </a:t>
            </a:r>
            <a:r>
              <a:rPr b="0" sz="3200" spc="-1" strike="noStrike">
                <a:solidFill>
                  <a:srgbClr val="003366"/>
                </a:solidFill>
                <a:latin typeface="Times New Roman"/>
              </a:rPr>
              <a:t>dlis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279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typedef struct 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792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DListNode * first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792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DListNode * last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792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} dlist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Άδεια λίστα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279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const dlist dlistEmpty = { NULL, NULL }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Διπλά συνδεδεμένες λίστε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Εισαγωγή στοιχείου στην αρχή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void dlistInsert (dlist * lp, int t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DListNode * n = (DListNode *)</a:t>
            </a:r>
            <a:br>
              <a:rPr sz="2400"/>
            </a:b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malloc(sizeof(DListNode)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if (n == NULL) 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fprintf(stderr, "Out of memory\n"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exit(1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n-&gt;data = t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Διπλά συνδεδεμένες λίστε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v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Εισαγωγή στοιχείου στην αρχή (συνέχεια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if (lp-&gt;first == NULL) 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n-&gt;prev = n-&gt;next = NULL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lp-&gt;first = lp-&gt;last = n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else 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n-&gt;prev = NULL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n-&gt;next = lp-&gt;first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lp-&gt;first-&gt;prev = n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lp-&gt;first = n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Ουρέ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First In First Out (FIFO)</a:t>
            </a:r>
            <a:br>
              <a:rPr sz="3200"/>
            </a:b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ό,τι μπαίνει πρώτο, βγαίνει πρώτο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Ουρά ακεραίων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333333"/>
                </a:solidFill>
                <a:latin typeface="Times New Roman"/>
              </a:rPr>
              <a:t>ΑΤΔ: </a:t>
            </a:r>
            <a:r>
              <a:rPr b="1" sz="2800" spc="-1" strike="noStrike">
                <a:solidFill>
                  <a:srgbClr val="660066"/>
                </a:solidFill>
                <a:latin typeface="Courier New"/>
              </a:rPr>
              <a:t>queue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const queue queueEmpty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void queueInsert (queue * qp, int t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int queueRemove (queue * qp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int queueHead (queue q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Κυκλικές λίστε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3428640"/>
            <a:ext cx="815328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Τύπος </a:t>
            </a:r>
            <a:r>
              <a:rPr b="0" sz="3200" spc="-1" strike="noStrike">
                <a:solidFill>
                  <a:srgbClr val="003366"/>
                </a:solidFill>
                <a:latin typeface="Times New Roman"/>
              </a:rPr>
              <a:t>clis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typedef struct 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ListNode * first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ListNode * last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} clist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Άδεια λίστα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const clist clistEmpty = { NULL, NULL }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1676520" y="1371600"/>
            <a:ext cx="6019560" cy="1905120"/>
            <a:chOff x="1676520" y="1371600"/>
            <a:chExt cx="6019560" cy="1905120"/>
          </a:xfrm>
        </p:grpSpPr>
        <p:sp>
          <p:nvSpPr>
            <p:cNvPr id="232" name=""/>
            <p:cNvSpPr/>
            <p:nvPr/>
          </p:nvSpPr>
          <p:spPr>
            <a:xfrm>
              <a:off x="1676520" y="2133720"/>
              <a:ext cx="6019560" cy="1143000"/>
            </a:xfrm>
            <a:prstGeom prst="rect">
              <a:avLst/>
            </a:prstGeom>
            <a:solidFill>
              <a:srgbClr val="f6f9b5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pSp>
          <p:nvGrpSpPr>
            <p:cNvPr id="233" name=""/>
            <p:cNvGrpSpPr/>
            <p:nvPr/>
          </p:nvGrpSpPr>
          <p:grpSpPr>
            <a:xfrm>
              <a:off x="2209680" y="2362320"/>
              <a:ext cx="685800" cy="380880"/>
              <a:chOff x="2209680" y="2362320"/>
              <a:chExt cx="685800" cy="380880"/>
            </a:xfrm>
          </p:grpSpPr>
          <p:sp>
            <p:nvSpPr>
              <p:cNvPr id="234" name=""/>
              <p:cNvSpPr/>
              <p:nvPr/>
            </p:nvSpPr>
            <p:spPr>
              <a:xfrm>
                <a:off x="2209680" y="2362320"/>
                <a:ext cx="685800" cy="380880"/>
              </a:xfrm>
              <a:prstGeom prst="rect">
                <a:avLst/>
              </a:prstGeom>
              <a:solidFill>
                <a:srgbClr val="ffcccc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187200"/>
                    <a:tab algn="r" pos="9525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2552760" y="2362320"/>
                <a:ext cx="0" cy="38088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236" name=""/>
            <p:cNvGrpSpPr/>
            <p:nvPr/>
          </p:nvGrpSpPr>
          <p:grpSpPr>
            <a:xfrm>
              <a:off x="3505320" y="2362320"/>
              <a:ext cx="685800" cy="380880"/>
              <a:chOff x="3505320" y="2362320"/>
              <a:chExt cx="685800" cy="380880"/>
            </a:xfrm>
          </p:grpSpPr>
          <p:sp>
            <p:nvSpPr>
              <p:cNvPr id="237" name=""/>
              <p:cNvSpPr/>
              <p:nvPr/>
            </p:nvSpPr>
            <p:spPr>
              <a:xfrm>
                <a:off x="3505320" y="2362320"/>
                <a:ext cx="685800" cy="380880"/>
              </a:xfrm>
              <a:prstGeom prst="rect">
                <a:avLst/>
              </a:prstGeom>
              <a:solidFill>
                <a:srgbClr val="ffcccc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187200"/>
                    <a:tab algn="r" pos="9525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3848400" y="2362320"/>
                <a:ext cx="0" cy="38088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2743200" y="2552760"/>
              <a:ext cx="76212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pSp>
          <p:nvGrpSpPr>
            <p:cNvPr id="240" name=""/>
            <p:cNvGrpSpPr/>
            <p:nvPr/>
          </p:nvGrpSpPr>
          <p:grpSpPr>
            <a:xfrm>
              <a:off x="4800600" y="2362320"/>
              <a:ext cx="685800" cy="380880"/>
              <a:chOff x="4800600" y="2362320"/>
              <a:chExt cx="685800" cy="380880"/>
            </a:xfrm>
          </p:grpSpPr>
          <p:sp>
            <p:nvSpPr>
              <p:cNvPr id="241" name=""/>
              <p:cNvSpPr/>
              <p:nvPr/>
            </p:nvSpPr>
            <p:spPr>
              <a:xfrm>
                <a:off x="4800600" y="2362320"/>
                <a:ext cx="685800" cy="380880"/>
              </a:xfrm>
              <a:prstGeom prst="rect">
                <a:avLst/>
              </a:prstGeom>
              <a:solidFill>
                <a:srgbClr val="ffcccc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187200"/>
                    <a:tab algn="r" pos="9525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5143680" y="2362320"/>
                <a:ext cx="0" cy="38088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sp>
          <p:nvSpPr>
            <p:cNvPr id="243" name=""/>
            <p:cNvSpPr/>
            <p:nvPr/>
          </p:nvSpPr>
          <p:spPr>
            <a:xfrm>
              <a:off x="4038480" y="2552760"/>
              <a:ext cx="76212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pSp>
          <p:nvGrpSpPr>
            <p:cNvPr id="244" name=""/>
            <p:cNvGrpSpPr/>
            <p:nvPr/>
          </p:nvGrpSpPr>
          <p:grpSpPr>
            <a:xfrm>
              <a:off x="6095880" y="2362320"/>
              <a:ext cx="685800" cy="380880"/>
              <a:chOff x="6095880" y="2362320"/>
              <a:chExt cx="685800" cy="380880"/>
            </a:xfrm>
          </p:grpSpPr>
          <p:sp>
            <p:nvSpPr>
              <p:cNvPr id="245" name=""/>
              <p:cNvSpPr/>
              <p:nvPr/>
            </p:nvSpPr>
            <p:spPr>
              <a:xfrm>
                <a:off x="6095880" y="2362320"/>
                <a:ext cx="685800" cy="380880"/>
              </a:xfrm>
              <a:prstGeom prst="rect">
                <a:avLst/>
              </a:prstGeom>
              <a:solidFill>
                <a:srgbClr val="ffcccc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187200"/>
                    <a:tab algn="r" pos="9525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6438960" y="2362320"/>
                <a:ext cx="0" cy="38088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sp>
          <p:nvSpPr>
            <p:cNvPr id="247" name=""/>
            <p:cNvSpPr/>
            <p:nvPr/>
          </p:nvSpPr>
          <p:spPr>
            <a:xfrm>
              <a:off x="5334120" y="2552760"/>
              <a:ext cx="76176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V="1">
              <a:off x="2362320" y="2742840"/>
              <a:ext cx="0" cy="30492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362320" y="3048120"/>
              <a:ext cx="464796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629400" y="2590920"/>
              <a:ext cx="38088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010280" y="2590920"/>
              <a:ext cx="0" cy="45720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352680" y="1371600"/>
              <a:ext cx="2362320" cy="609480"/>
            </a:xfrm>
            <a:prstGeom prst="rect">
              <a:avLst/>
            </a:prstGeom>
            <a:solidFill>
              <a:srgbClr val="bdd7e5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 flipH="1">
              <a:off x="2590920" y="1828800"/>
              <a:ext cx="1218960" cy="45720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334120" y="1828800"/>
              <a:ext cx="1143000" cy="45720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475800" y="144792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33"/>
                  </a:solidFill>
                  <a:latin typeface="Courier New"/>
                </a:rPr>
                <a:t>first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725360" y="144792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33"/>
                  </a:solidFill>
                  <a:latin typeface="Courier New"/>
                </a:rPr>
                <a:t>last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Κυκλικές λίστε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Εισαγωγή στοιχείου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void clistInsert (clist * lp, int t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ListNode * n = (ListNode *)</a:t>
            </a:r>
            <a:br>
              <a:rPr sz="2400"/>
            </a:b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malloc(sizeof(ListNode)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if (n == NULL) 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fprintf(stderr, "Out of memory\n"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exit(1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n-&gt;data = t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Κυκλικές λίστε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Εισαγωγή στοιχείου (συνέχεια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if (lp-&gt;first == NULL) 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lp-&gt;first = lp-&gt;last = n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n-&gt;next = n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else 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n-&gt;next = lp-&gt;first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lp-&gt;last-&gt;next = n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lp-&gt;last = n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Κυκλικές λίστε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v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Αφαίρεση στοιχείου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int clistRemove (clist * lp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int result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if (lp-&gt;first == NULL) 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fprintf(stderr, "Nothing to remove"</a:t>
            </a:r>
            <a:br>
              <a:rPr sz="2400"/>
            </a:b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" from empty list\n"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exit(1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result = lp-&gt;first-&gt;data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Κυκλικές λίστε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v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Αφαίρεση στοιχείου (συνέχεια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if (lp-&gt;first == lp-&gt;last) 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free(lp-&gt;first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lp-&gt;first = lp-&gt;last = NULL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else 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lp-&gt;first = lp-&gt;first-&gt;next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free(lp-&gt;last-&gt;next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lp-&gt;last-&gt;next = lp-&gt;first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return result;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Κυκλικές λίστε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v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Εκτύπωση στοιχείων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void clistPrint (clist l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ListNode * n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for (n = l.first; n != NULL;</a:t>
            </a:r>
            <a:br>
              <a:rPr sz="2400"/>
            </a:b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   n = n-&gt;next) 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printf("%d\n", n-&gt;data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if (n-&gt;next == l.first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break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Ουρέ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Υλοποίηση με απλά συνδεδεμένη λίστα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1295280" y="2514600"/>
            <a:ext cx="6019920" cy="2286000"/>
            <a:chOff x="1295280" y="2514600"/>
            <a:chExt cx="6019920" cy="2286000"/>
          </a:xfrm>
        </p:grpSpPr>
        <p:sp>
          <p:nvSpPr>
            <p:cNvPr id="92" name=""/>
            <p:cNvSpPr/>
            <p:nvPr/>
          </p:nvSpPr>
          <p:spPr>
            <a:xfrm>
              <a:off x="2133720" y="2514600"/>
              <a:ext cx="2361960" cy="609480"/>
            </a:xfrm>
            <a:prstGeom prst="rect">
              <a:avLst/>
            </a:prstGeom>
            <a:solidFill>
              <a:srgbClr val="bdd7e5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295280" y="3505320"/>
              <a:ext cx="6019920" cy="1295280"/>
            </a:xfrm>
            <a:prstGeom prst="rect">
              <a:avLst/>
            </a:prstGeom>
            <a:solidFill>
              <a:srgbClr val="f6f9b5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pSp>
          <p:nvGrpSpPr>
            <p:cNvPr id="94" name=""/>
            <p:cNvGrpSpPr/>
            <p:nvPr/>
          </p:nvGrpSpPr>
          <p:grpSpPr>
            <a:xfrm>
              <a:off x="1828800" y="3962520"/>
              <a:ext cx="685800" cy="380880"/>
              <a:chOff x="1828800" y="3962520"/>
              <a:chExt cx="685800" cy="380880"/>
            </a:xfrm>
          </p:grpSpPr>
          <p:sp>
            <p:nvSpPr>
              <p:cNvPr id="95" name=""/>
              <p:cNvSpPr/>
              <p:nvPr/>
            </p:nvSpPr>
            <p:spPr>
              <a:xfrm>
                <a:off x="1828800" y="3962520"/>
                <a:ext cx="685800" cy="380880"/>
              </a:xfrm>
              <a:prstGeom prst="rect">
                <a:avLst/>
              </a:prstGeom>
              <a:solidFill>
                <a:srgbClr val="ffcccc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187200"/>
                    <a:tab algn="r" pos="9525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2171880" y="3962520"/>
                <a:ext cx="0" cy="38088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97" name=""/>
            <p:cNvGrpSpPr/>
            <p:nvPr/>
          </p:nvGrpSpPr>
          <p:grpSpPr>
            <a:xfrm>
              <a:off x="3124080" y="3962520"/>
              <a:ext cx="685800" cy="380880"/>
              <a:chOff x="3124080" y="3962520"/>
              <a:chExt cx="685800" cy="380880"/>
            </a:xfrm>
          </p:grpSpPr>
          <p:sp>
            <p:nvSpPr>
              <p:cNvPr id="98" name=""/>
              <p:cNvSpPr/>
              <p:nvPr/>
            </p:nvSpPr>
            <p:spPr>
              <a:xfrm>
                <a:off x="3124080" y="3962520"/>
                <a:ext cx="685800" cy="380880"/>
              </a:xfrm>
              <a:prstGeom prst="rect">
                <a:avLst/>
              </a:prstGeom>
              <a:solidFill>
                <a:srgbClr val="ffcccc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187200"/>
                    <a:tab algn="r" pos="9525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3467160" y="3962520"/>
                <a:ext cx="0" cy="38088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sp>
          <p:nvSpPr>
            <p:cNvPr id="100" name=""/>
            <p:cNvSpPr/>
            <p:nvPr/>
          </p:nvSpPr>
          <p:spPr>
            <a:xfrm>
              <a:off x="2362320" y="4152960"/>
              <a:ext cx="76176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pSp>
          <p:nvGrpSpPr>
            <p:cNvPr id="101" name=""/>
            <p:cNvGrpSpPr/>
            <p:nvPr/>
          </p:nvGrpSpPr>
          <p:grpSpPr>
            <a:xfrm>
              <a:off x="4419720" y="3962520"/>
              <a:ext cx="685800" cy="380880"/>
              <a:chOff x="4419720" y="3962520"/>
              <a:chExt cx="685800" cy="380880"/>
            </a:xfrm>
          </p:grpSpPr>
          <p:sp>
            <p:nvSpPr>
              <p:cNvPr id="102" name=""/>
              <p:cNvSpPr/>
              <p:nvPr/>
            </p:nvSpPr>
            <p:spPr>
              <a:xfrm>
                <a:off x="4419720" y="3962520"/>
                <a:ext cx="685800" cy="380880"/>
              </a:xfrm>
              <a:prstGeom prst="rect">
                <a:avLst/>
              </a:prstGeom>
              <a:solidFill>
                <a:srgbClr val="ffcccc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187200"/>
                    <a:tab algn="r" pos="9525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4762800" y="3962520"/>
                <a:ext cx="0" cy="38088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sp>
          <p:nvSpPr>
            <p:cNvPr id="104" name=""/>
            <p:cNvSpPr/>
            <p:nvPr/>
          </p:nvSpPr>
          <p:spPr>
            <a:xfrm>
              <a:off x="3657600" y="4152960"/>
              <a:ext cx="76212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715000" y="3962520"/>
              <a:ext cx="685800" cy="380880"/>
              <a:chOff x="5715000" y="3962520"/>
              <a:chExt cx="685800" cy="380880"/>
            </a:xfrm>
          </p:grpSpPr>
          <p:sp>
            <p:nvSpPr>
              <p:cNvPr id="106" name=""/>
              <p:cNvSpPr/>
              <p:nvPr/>
            </p:nvSpPr>
            <p:spPr>
              <a:xfrm>
                <a:off x="5715000" y="3962520"/>
                <a:ext cx="685800" cy="380880"/>
              </a:xfrm>
              <a:prstGeom prst="rect">
                <a:avLst/>
              </a:prstGeom>
              <a:solidFill>
                <a:srgbClr val="ffcccc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187200"/>
                    <a:tab algn="r" pos="9525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6058080" y="3962520"/>
                <a:ext cx="0" cy="38088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sp>
          <p:nvSpPr>
            <p:cNvPr id="108" name=""/>
            <p:cNvSpPr/>
            <p:nvPr/>
          </p:nvSpPr>
          <p:spPr>
            <a:xfrm>
              <a:off x="4952880" y="4152960"/>
              <a:ext cx="76212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pSp>
          <p:nvGrpSpPr>
            <p:cNvPr id="109" name=""/>
            <p:cNvGrpSpPr/>
            <p:nvPr/>
          </p:nvGrpSpPr>
          <p:grpSpPr>
            <a:xfrm>
              <a:off x="6248520" y="4191120"/>
              <a:ext cx="799920" cy="457200"/>
              <a:chOff x="6248520" y="4191120"/>
              <a:chExt cx="799920" cy="457200"/>
            </a:xfrm>
          </p:grpSpPr>
          <p:sp>
            <p:nvSpPr>
              <p:cNvPr id="110" name=""/>
              <p:cNvSpPr/>
              <p:nvPr/>
            </p:nvSpPr>
            <p:spPr>
              <a:xfrm>
                <a:off x="6248520" y="4191120"/>
                <a:ext cx="53316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781680" y="4191120"/>
                <a:ext cx="0" cy="30456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515280" y="4495680"/>
                <a:ext cx="533160" cy="0"/>
              </a:xfrm>
              <a:prstGeom prst="line">
                <a:avLst/>
              </a:prstGeom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591240" y="4572000"/>
                <a:ext cx="381240" cy="0"/>
              </a:xfrm>
              <a:prstGeom prst="line">
                <a:avLst/>
              </a:prstGeom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6667560" y="4648320"/>
                <a:ext cx="228600" cy="0"/>
              </a:xfrm>
              <a:prstGeom prst="line">
                <a:avLst/>
              </a:prstGeom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sp>
          <p:nvSpPr>
            <p:cNvPr id="115" name=""/>
            <p:cNvSpPr/>
            <p:nvPr/>
          </p:nvSpPr>
          <p:spPr>
            <a:xfrm flipH="1">
              <a:off x="1980720" y="2971800"/>
              <a:ext cx="838440" cy="99072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962520" y="2971800"/>
              <a:ext cx="1904760" cy="99072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56480" y="259092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33"/>
                  </a:solidFill>
                  <a:latin typeface="Courier New"/>
                </a:rPr>
                <a:t>first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506400" y="259092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33"/>
                  </a:solidFill>
                  <a:latin typeface="Courier New"/>
                </a:rPr>
                <a:t>last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Υλοποίηση ουράς σε 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C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Υλοποίηση με απλά συνδεδεμένη λίστα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typedef struct list_tag 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int data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struct list_tag * next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} ListNode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Τύπος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queue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typedef struct 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ListNode * first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ListNode * last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} queue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Υλοποίηση ουράς σε 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C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Άδεια ουρά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const queue queueEmpty = { NULL, NULL }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Εισαγωγή στοιχείου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void queueInsert (queue * qp, int t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ListNode * n = (ListNode *) </a:t>
            </a:r>
            <a:br>
              <a:rPr sz="2400"/>
            </a:b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malloc(sizeof(ListNode)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if (n == NULL) 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printf("Out of memory\n"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exit(1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Υλοποίηση ουράς σε 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C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Εισαγωγή στοιχείου (συνέχεια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n-&gt;data = t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n-&gt;next = NULL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if (qp-&gt;last == NULL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qp-&gt;first = qp-&gt;last = n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else 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qp-&gt;last-&gt;next = n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qp-&gt;last = n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Υλοποίηση ουρά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v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Αφαίρεση στοιχείου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int queueRemove (queue * qp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ListNode * n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int result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if (qp-&gt;first == NULL) 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printf("Nothing to remove"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 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" from an empty queue\n"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exit(1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Υλοποίηση ουρά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v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Αφαίρεση στοιχείου (συνέχεια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n = qp-&gt;first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result = qp-&gt;first-&gt;data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qp-&gt;first = qp-&gt;first-&gt;next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free(n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if (qp-&gt;first == NULL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qp-&gt;last = NULL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return result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Υλοποίηση ουρά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v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Εξέταση στοιχείου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int queueHead (queue q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if (q.first == NULL) 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fprintf(stderr, "Nothing to see"</a:t>
            </a:r>
            <a:br>
              <a:rPr sz="2400"/>
            </a:b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" in an empty queue\n"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exit(1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return q.first-&gt;data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3T16:28:41Z</dcterms:created>
  <dc:creator>Nikolaos S. Papaspyrou</dc:creator>
  <dc:description/>
  <dc:language>en-US</dc:language>
  <cp:lastModifiedBy>Nikolaos S. Papaspyrou</cp:lastModifiedBy>
  <cp:lastPrinted>2000-02-14T22:10:23Z</cp:lastPrinted>
  <dcterms:modified xsi:type="dcterms:W3CDTF">2002-04-15T20:23:34Z</dcterms:modified>
  <cp:revision>63</cp:revision>
  <dc:subject>Προγραμματιστικές Τεχνικές</dc:subject>
  <dc:title>Διαφάνειες παρουσίασης</dc:title>
</cp:coreProperties>
</file>