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8D65-BCFC-4A63-A453-952C5B598653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Προγραμματιστικές Τεχνικέ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81280" y="457200"/>
            <a:ext cx="55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ΠΡΟΓΡΑΜΜΑΤΙΣΤΙΚΕΣ ΤΕΧΝΙΚΕ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522440"/>
            <a:ext cx="86868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00240" indent="-2100240">
              <a:tabLst>
                <a:tab algn="l" pos="0"/>
                <a:tab algn="l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ιδάσκοντες: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Γιάννης Μαΐστρος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maistros@cs.ntua.gr)</a:t>
            </a:r>
            <a:br>
              <a:rPr sz="2800"/>
            </a:b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τάθης Ζάχος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zachos@cs.ntua.gr)</a:t>
            </a:r>
            <a:br>
              <a:rPr sz="3200"/>
            </a:b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nickie@softlab.ntua.g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0280" y="914400"/>
            <a:ext cx="791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Tahoma"/>
              </a:rPr>
              <a:t>http://www.softlab.ntua.gr/~nickie/Courses/progtech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924A-6C97-4C6C-A39F-A2FDFD5E13F4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Προγραμματιστικές Τεχνικέ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5 (α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ομές και ενώσει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Δείκτε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Πίνακες και δείκτε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ίνακες και δείκ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: αντιγραφή πινάκ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a[10], b[1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*p = a, *q = b,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/* assume b initialized *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i=0; i&lt;10; i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*p++ = *q++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ίνακες και δείκ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: εκτύπωση συμβολοσειρά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putchar (char 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s[] = "Hello world!\n"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*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or (p = s; *p != '\0'; p++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utchar(*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ομές 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structures)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 τύπο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truc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complex_tag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re, im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truct complex_tag z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3657600"/>
            <a:ext cx="77724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z.re = 1.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z.im = -1.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ypedef struct complex_tag comple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z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zs [10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630840" y="1447920"/>
            <a:ext cx="1979640" cy="1143000"/>
            <a:chOff x="6630840" y="1447920"/>
            <a:chExt cx="1979640" cy="1143000"/>
          </a:xfrm>
        </p:grpSpPr>
        <p:sp>
          <p:nvSpPr>
            <p:cNvPr id="91" name=""/>
            <p:cNvSpPr/>
            <p:nvPr/>
          </p:nvSpPr>
          <p:spPr>
            <a:xfrm>
              <a:off x="7086600" y="1447920"/>
              <a:ext cx="1523880" cy="1143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162920" y="1514520"/>
              <a:ext cx="1371600" cy="4597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400" spc="-1" strike="noStrike">
                  <a:solidFill>
                    <a:srgbClr val="333333"/>
                  </a:solidFill>
                  <a:latin typeface="Courier New"/>
                </a:rPr>
                <a:t>r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162920" y="2048040"/>
              <a:ext cx="1371600" cy="45972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400" spc="-1" strike="noStrike">
                  <a:solidFill>
                    <a:srgbClr val="333333"/>
                  </a:solidFill>
                  <a:latin typeface="Courier New"/>
                </a:rPr>
                <a:t>im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630840" y="15145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z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ομές 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structures)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complement (complex z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mplex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sult.re = z.r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sult.im = -z.i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turn resul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ομές 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structures)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ypedef struct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  firstName [3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  lastName [5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  phone [1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   age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salary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 record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ecord r [1000]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r[423].age = 3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νώσεις 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unions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 τύπο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un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union number_tag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d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union number_tag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630840" y="1447920"/>
            <a:ext cx="1979640" cy="1143000"/>
            <a:chOff x="6630840" y="1447920"/>
            <a:chExt cx="1979640" cy="1143000"/>
          </a:xfrm>
        </p:grpSpPr>
        <p:sp>
          <p:nvSpPr>
            <p:cNvPr id="102" name=""/>
            <p:cNvSpPr/>
            <p:nvPr/>
          </p:nvSpPr>
          <p:spPr>
            <a:xfrm>
              <a:off x="7086600" y="1447920"/>
              <a:ext cx="1523880" cy="1143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162920" y="1523880"/>
              <a:ext cx="1371600" cy="990720"/>
            </a:xfrm>
            <a:prstGeom prst="rect">
              <a:avLst/>
            </a:prstGeom>
            <a:solidFill>
              <a:srgbClr val="bdd7e5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400" spc="-1" strike="noStrike">
                  <a:solidFill>
                    <a:srgbClr val="333333"/>
                  </a:solidFill>
                  <a:latin typeface="Courier New"/>
                </a:rPr>
                <a:t>d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13680" y="1565280"/>
              <a:ext cx="1143000" cy="4597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400" spc="-1" strike="noStrike">
                  <a:solidFill>
                    <a:srgbClr val="333333"/>
                  </a:solidFill>
                  <a:latin typeface="Courier New"/>
                </a:rPr>
                <a:t>i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630840" y="15145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n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685800" y="419112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810720" indent="-28260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.d = 1.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lf\n", n.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.i = 4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d\n", n.i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072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lf\n", n.d);   /* wrong! *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είκτες 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pointers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εταβλητέ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που δεν περιέχουν μια τιμή κάποιου απλού τύπου δεδομέν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λλά τη 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ιεύθυνση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μιας άλλης μεταβλητή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x, *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755360" y="5003640"/>
            <a:ext cx="2511720" cy="942480"/>
            <a:chOff x="1755360" y="5003640"/>
            <a:chExt cx="2511720" cy="942480"/>
          </a:xfrm>
        </p:grpSpPr>
        <p:sp>
          <p:nvSpPr>
            <p:cNvPr id="110" name=""/>
            <p:cNvSpPr/>
            <p:nvPr/>
          </p:nvSpPr>
          <p:spPr>
            <a:xfrm>
              <a:off x="2590920" y="5410080"/>
              <a:ext cx="167616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92360" y="500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x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55360" y="548640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333333"/>
                  </a:solidFill>
                  <a:latin typeface="Arial"/>
                </a:rPr>
                <a:t>δ12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651200" y="3936960"/>
            <a:ext cx="2511720" cy="942480"/>
            <a:chOff x="4651200" y="3936960"/>
            <a:chExt cx="2511720" cy="942480"/>
          </a:xfrm>
        </p:grpSpPr>
        <p:sp>
          <p:nvSpPr>
            <p:cNvPr id="114" name=""/>
            <p:cNvSpPr/>
            <p:nvPr/>
          </p:nvSpPr>
          <p:spPr>
            <a:xfrm>
              <a:off x="5486400" y="4343400"/>
              <a:ext cx="167652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87840" y="39369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p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651200" y="441972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333333"/>
                  </a:solidFill>
                  <a:latin typeface="Arial"/>
                </a:rPr>
                <a:t>δ24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201840" y="5460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4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343400" y="4394160"/>
            <a:ext cx="2382480" cy="1219320"/>
            <a:chOff x="4343400" y="4394160"/>
            <a:chExt cx="2382480" cy="1219320"/>
          </a:xfrm>
        </p:grpSpPr>
        <p:sp>
          <p:nvSpPr>
            <p:cNvPr id="119" name=""/>
            <p:cNvSpPr/>
            <p:nvPr/>
          </p:nvSpPr>
          <p:spPr>
            <a:xfrm>
              <a:off x="5944680" y="439416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δ12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4343400" y="4699080"/>
              <a:ext cx="1599840" cy="9144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είκτες 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pointers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εικτοδότηση: &amp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η διεύθυνση μιας μεταβλητή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 = &amp;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οδεικτοδότηση: *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ο περιεχόμενο μιας διεύθυνση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d", *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*p = 7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755360" y="5003640"/>
            <a:ext cx="2511720" cy="942480"/>
            <a:chOff x="1755360" y="5003640"/>
            <a:chExt cx="2511720" cy="942480"/>
          </a:xfrm>
        </p:grpSpPr>
        <p:sp>
          <p:nvSpPr>
            <p:cNvPr id="124" name=""/>
            <p:cNvSpPr/>
            <p:nvPr/>
          </p:nvSpPr>
          <p:spPr>
            <a:xfrm>
              <a:off x="2590920" y="5410080"/>
              <a:ext cx="167616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92360" y="500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x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55360" y="548640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333333"/>
                  </a:solidFill>
                  <a:latin typeface="Arial"/>
                </a:rPr>
                <a:t>δ12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651200" y="3936960"/>
            <a:ext cx="2511720" cy="942480"/>
            <a:chOff x="4651200" y="3936960"/>
            <a:chExt cx="2511720" cy="942480"/>
          </a:xfrm>
        </p:grpSpPr>
        <p:sp>
          <p:nvSpPr>
            <p:cNvPr id="128" name=""/>
            <p:cNvSpPr/>
            <p:nvPr/>
          </p:nvSpPr>
          <p:spPr>
            <a:xfrm>
              <a:off x="5486400" y="4343400"/>
              <a:ext cx="167652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87840" y="39369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p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51200" y="441972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333333"/>
                  </a:solidFill>
                  <a:latin typeface="Arial"/>
                </a:rPr>
                <a:t>δ24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3201840" y="5460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4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343400" y="4394160"/>
            <a:ext cx="2382480" cy="1219320"/>
            <a:chOff x="4343400" y="4394160"/>
            <a:chExt cx="2382480" cy="1219320"/>
          </a:xfrm>
        </p:grpSpPr>
        <p:sp>
          <p:nvSpPr>
            <p:cNvPr id="133" name=""/>
            <p:cNvSpPr/>
            <p:nvPr/>
          </p:nvSpPr>
          <p:spPr>
            <a:xfrm>
              <a:off x="5944680" y="439416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δ12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4343400" y="4699080"/>
              <a:ext cx="1599840" cy="9144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ίνακες και δείκ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ριθμητική δεικτ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819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a[3] = {7, 6, 42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*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794200" y="1752480"/>
            <a:ext cx="2816280" cy="3609360"/>
            <a:chOff x="5794200" y="1752480"/>
            <a:chExt cx="2816280" cy="3609360"/>
          </a:xfrm>
        </p:grpSpPr>
        <p:sp>
          <p:nvSpPr>
            <p:cNvPr id="138" name=""/>
            <p:cNvSpPr/>
            <p:nvPr/>
          </p:nvSpPr>
          <p:spPr>
            <a:xfrm>
              <a:off x="6934320" y="4826160"/>
              <a:ext cx="1676160" cy="5331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935760" y="4419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p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98760" y="490212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333333"/>
                  </a:solidFill>
                  <a:latin typeface="Arial"/>
                </a:rPr>
                <a:t>δ24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629400" y="2158920"/>
              <a:ext cx="76212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630840" y="1752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Courier New"/>
                </a:rPr>
                <a:t>a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94200" y="223524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333333"/>
                  </a:solidFill>
                  <a:latin typeface="Arial"/>
                </a:rPr>
                <a:t>δ12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859800" y="2209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29400" y="2666880"/>
              <a:ext cx="76212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94200" y="274320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333333"/>
                  </a:solidFill>
                  <a:latin typeface="Arial"/>
                </a:rPr>
                <a:t>δ12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859800" y="2717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29400" y="3200400"/>
              <a:ext cx="76212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94200" y="327672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333333"/>
                  </a:solidFill>
                  <a:latin typeface="Arial"/>
                </a:rPr>
                <a:t>δ126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770520" y="32511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4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7392960" y="2437920"/>
            <a:ext cx="781200" cy="2898720"/>
            <a:chOff x="7392960" y="2437920"/>
            <a:chExt cx="781200" cy="2898720"/>
          </a:xfrm>
        </p:grpSpPr>
        <p:sp>
          <p:nvSpPr>
            <p:cNvPr id="152" name=""/>
            <p:cNvSpPr/>
            <p:nvPr/>
          </p:nvSpPr>
          <p:spPr>
            <a:xfrm>
              <a:off x="7392960" y="487692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δ124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7467120" y="2438280"/>
              <a:ext cx="38124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7848720" y="2437920"/>
              <a:ext cx="0" cy="251460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685800" y="297180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19000" indent="-285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 = &amp;(a[0]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 = &amp;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 = 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44956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19000" indent="-285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d\n", *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d\n", *(p+1)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 = p+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d\n", *p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ίνακες και δείκτε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Ισοδυναμία πινάκων και δεικτ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Ένας πίνακας είναι ένας δείκτης στο πρώτο στοιχείο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[i]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imes New Roman"/>
              </a:rPr>
              <a:t>ισοδύναμο με</a:t>
            </a:r>
            <a:r>
              <a:rPr b="0" lang="el-GR" sz="24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*(a+i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ι πίνακες όμως είναι σταθεροί δείκτες, δηλαδή δεν μπορούν να αλλάξουν τιμή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a[3] = {7, 6, 42}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*p = &amp;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++;  /* correct *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++;  /* wrong!  *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14T22:10:23Z</cp:lastPrinted>
  <dcterms:modified xsi:type="dcterms:W3CDTF">2002-04-11T08:32:56Z</dcterms:modified>
  <cp:revision>51</cp:revision>
  <dc:subject>Προγραμματιστικές Τεχνικές</dc:subject>
  <dc:title>Διαφάνειες παρουσίασης</dc:title>
</cp:coreProperties>
</file>