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5CCC-DB3A-4160-8250-52B2253B3BF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E1E-4A62-4147-B401-F0F7BC567C7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ως ΑΤ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ζήτηση σε 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όμηση πινάκ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αριθμ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ίνακας πρέπει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αξινομημέν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log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287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918960" y="3580920"/>
            <a:ext cx="537480" cy="688680"/>
            <a:chOff x="3918960" y="3580920"/>
            <a:chExt cx="537480" cy="688680"/>
          </a:xfrm>
        </p:grpSpPr>
        <p:sp>
          <p:nvSpPr>
            <p:cNvPr id="297" name=""/>
            <p:cNvSpPr/>
            <p:nvPr/>
          </p:nvSpPr>
          <p:spPr>
            <a:xfrm flipV="1">
              <a:off x="4191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189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452480" y="3580920"/>
            <a:ext cx="537480" cy="688680"/>
            <a:chOff x="4452480" y="3580920"/>
            <a:chExt cx="537480" cy="688680"/>
          </a:xfrm>
        </p:grpSpPr>
        <p:sp>
          <p:nvSpPr>
            <p:cNvPr id="300" name=""/>
            <p:cNvSpPr/>
            <p:nvPr/>
          </p:nvSpPr>
          <p:spPr>
            <a:xfrm flipV="1">
              <a:off x="47242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24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986000" y="3580920"/>
            <a:ext cx="537480" cy="688680"/>
            <a:chOff x="4986000" y="3580920"/>
            <a:chExt cx="537480" cy="688680"/>
          </a:xfrm>
        </p:grpSpPr>
        <p:sp>
          <p:nvSpPr>
            <p:cNvPr id="303" name=""/>
            <p:cNvSpPr/>
            <p:nvPr/>
          </p:nvSpPr>
          <p:spPr>
            <a:xfrm flipV="1">
              <a:off x="52578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860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8580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μέθοδοι αναζήτησ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κρότερο κόστος  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ερισσότερος χώρ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ίνακε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τακερματισμού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ash tabl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selec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ρες το μικρότερο των στοιχείων μετά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έ το με το 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φρουρ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-1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in = a[i], minj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+1; j &lt; n; j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a[j] &lt; mi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in = a[minj = 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minj]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m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inser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με αυτό τον τρόπο όταν ταξινομούμε τα χαρτιά μιας τράπουλ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από το δεύτερο και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ποθέτησε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τη σωστή του θέση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ξύ των στοιχείων που είναι πριν από αυτ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ιχείο φρουρ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ή εισαγωγ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n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-1; j &gt;= 0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x &lt; a[j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bubble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τά φθίν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ε τα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αματά αν σε ένα πέρασμα δεν γίνει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ποιο σημείο έγινε η τελευταία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κατεύθυνσης μεταξύ διαδοχικών περασμάτων </a:t>
            </a: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hake sor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b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 = n-1; j &gt; i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j-1] &gt; a[j]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a[j-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-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με διαμέριση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quick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λεξε ένα τυχαίο στοιχεί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υ πίνακ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μέρισε τον πίνακα, μεταφέροντας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ικρό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αρχ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εγαλύ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αδρομικά, ταξινόμησε τα δύο μέρ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 χειρότερη περίπτω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μέσο ό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0, 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_auxil (int a[], int lowe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upp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ower &lt; upper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(lower + upper) / 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lower, j = upp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 &lt;= j; i++,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i] &lt; x)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j] &gt; x) j--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i &lt;= j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emp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lower, j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i, upp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ή πράξη: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σπέλ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[i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ήθως υλοποιούνται με κάποιο ΣΤΔ πινάκ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ray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 προσπέλαση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ΣΤΔ του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ονοδιάστατου πίνακ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παρκεί για την υλοποίηση κάθε ΑΤΔ πίνα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άρτηση 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lo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ολογίζει τη θέση ενός στοιχείου του ΑΤΔ πίνακα στο μονοδιάστατο ΣΤΔ πίνακα της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οι τρόποι ταξινόμ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hell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ell sort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σε σωρό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eap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με συγχώνευσ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πίνακα δύο διαστάσεων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148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ίθμηση κατά στήλ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720" y="2057400"/>
            <a:ext cx="5526360" cy="1831320"/>
            <a:chOff x="2286720" y="2057400"/>
            <a:chExt cx="5526360" cy="1831320"/>
          </a:xfrm>
        </p:grpSpPr>
        <p:sp>
          <p:nvSpPr>
            <p:cNvPr id="93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620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116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43400" y="3429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72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54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5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53040" y="22860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6120" y="2743200"/>
              <a:ext cx="8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κάτω τριγωνικ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/ 2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μοίως για συμμετρικούς πίνακ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127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τριδιαγώνιου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2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168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αραι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δυαδικό πίνακ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τρεις πίνα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2, 3, 3, 4 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co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3, 2, 3, 5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v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720" y="2057400"/>
            <a:ext cx="4951080" cy="2288520"/>
            <a:chOff x="2286720" y="2057400"/>
            <a:chExt cx="4951080" cy="2288520"/>
          </a:xfrm>
        </p:grpSpPr>
        <p:sp>
          <p:nvSpPr>
            <p:cNvPr id="209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620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16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43400" y="3886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8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5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6640" y="2514600"/>
              <a:ext cx="8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7360" y="2971800"/>
              <a:ext cx="9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ια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τοιχεία διατρέχονται κατά σει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244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7080" y="3580920"/>
            <a:ext cx="537480" cy="688680"/>
            <a:chOff x="2287080" y="3580920"/>
            <a:chExt cx="537480" cy="688680"/>
          </a:xfrm>
        </p:grpSpPr>
        <p:sp>
          <p:nvSpPr>
            <p:cNvPr id="254" name=""/>
            <p:cNvSpPr/>
            <p:nvPr/>
          </p:nvSpPr>
          <p:spPr>
            <a:xfrm flipV="1">
              <a:off x="25588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70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353760" y="3580920"/>
            <a:ext cx="537480" cy="688680"/>
            <a:chOff x="3353760" y="3580920"/>
            <a:chExt cx="537480" cy="688680"/>
          </a:xfrm>
        </p:grpSpPr>
        <p:sp>
          <p:nvSpPr>
            <p:cNvPr id="257" name=""/>
            <p:cNvSpPr/>
            <p:nvPr/>
          </p:nvSpPr>
          <p:spPr>
            <a:xfrm flipV="1">
              <a:off x="362556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37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20600" y="3580920"/>
            <a:ext cx="537480" cy="688680"/>
            <a:chOff x="2820600" y="3580920"/>
            <a:chExt cx="537480" cy="688680"/>
          </a:xfrm>
        </p:grpSpPr>
        <p:sp>
          <p:nvSpPr>
            <p:cNvPr id="260" name=""/>
            <p:cNvSpPr/>
            <p:nvPr/>
          </p:nvSpPr>
          <p:spPr>
            <a:xfrm flipV="1">
              <a:off x="30924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206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87280" y="3580920"/>
            <a:ext cx="537480" cy="688680"/>
            <a:chOff x="3887280" y="3580920"/>
            <a:chExt cx="537480" cy="688680"/>
          </a:xfrm>
        </p:grpSpPr>
        <p:sp>
          <p:nvSpPr>
            <p:cNvPr id="263" name=""/>
            <p:cNvSpPr/>
            <p:nvPr/>
          </p:nvSpPr>
          <p:spPr>
            <a:xfrm flipV="1">
              <a:off x="41590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72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4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414320" y="3580920"/>
            <a:ext cx="537480" cy="688680"/>
            <a:chOff x="4414320" y="3580920"/>
            <a:chExt cx="537480" cy="688680"/>
          </a:xfrm>
        </p:grpSpPr>
        <p:sp>
          <p:nvSpPr>
            <p:cNvPr id="266" name=""/>
            <p:cNvSpPr/>
            <p:nvPr/>
          </p:nvSpPr>
          <p:spPr>
            <a:xfrm flipV="1">
              <a:off x="4686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432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φρουρό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 (sentine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86000" y="5045040"/>
            <a:ext cx="5992920" cy="825480"/>
            <a:chOff x="2286000" y="5045040"/>
            <a:chExt cx="5992920" cy="825480"/>
          </a:xfrm>
        </p:grpSpPr>
        <p:sp>
          <p:nvSpPr>
            <p:cNvPr id="270" name=""/>
            <p:cNvSpPr/>
            <p:nvPr/>
          </p:nvSpPr>
          <p:spPr>
            <a:xfrm>
              <a:off x="22860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26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862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197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864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8920" y="5045040"/>
              <a:ext cx="81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553080" y="5270400"/>
            <a:ext cx="533520" cy="457200"/>
          </a:xfrm>
          <a:prstGeom prst="rect">
            <a:avLst/>
          </a:prstGeom>
          <a:solidFill>
            <a:srgbClr val="ffcccc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search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i] ==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φρουρ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earch_s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n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a[i] != x; i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 &lt; n) ? i :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29T18:39:58Z</dcterms:modified>
  <cp:revision>45</cp:revision>
  <dc:subject>Προγραμματιστικές Τεχνικές</dc:subject>
  <dc:title>Διαφάνειες παρουσίασης</dc:title>
</cp:coreProperties>
</file>