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4B25-2683-4CD3-837C-8C98FCE84CC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AC25-ABBC-4624-A36E-E72D36A13FF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 (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τολές και ροή ελέγχου (συνέχεια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ή του προγράμματο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1, s=0; i &lt;=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24000" y="1981080"/>
            <a:ext cx="3063960" cy="155700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χικοποίησ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βήμα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866920" y="1295280"/>
            <a:ext cx="3053160" cy="4343400"/>
            <a:chOff x="5866920" y="1295280"/>
            <a:chExt cx="3053160" cy="4343400"/>
          </a:xfrm>
        </p:grpSpPr>
        <p:sp>
          <p:nvSpPr>
            <p:cNvPr id="91" name=""/>
            <p:cNvSpPr/>
            <p:nvPr/>
          </p:nvSpPr>
          <p:spPr>
            <a:xfrm>
              <a:off x="6251400" y="2590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80000" y="373356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5800" y="3352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83440" y="297180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461440" y="2971800"/>
              <a:ext cx="2880" cy="2666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65800" y="50292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870520" y="52578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866920" y="2361960"/>
              <a:ext cx="3240" cy="2895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70520" y="236196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51400" y="3276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13960" y="251460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80000" y="44956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ήμ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5800" y="426708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51400" y="1676160"/>
              <a:ext cx="18288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ρχικοποίησ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5800" y="2209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65800" y="12952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rea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44600" y="4216320"/>
            <a:ext cx="2989440" cy="1146240"/>
          </a:xfrm>
          <a:custGeom>
            <a:avLst/>
            <a:gdLst/>
            <a:ahLst/>
            <a:rect l="l" t="t" r="r" b="b"/>
            <a:pathLst>
              <a:path w="1883" h="722">
                <a:moveTo>
                  <a:pt x="1361" y="32"/>
                </a:moveTo>
                <a:cubicBezTo>
                  <a:pt x="1416" y="36"/>
                  <a:pt x="1653" y="0"/>
                  <a:pt x="1693" y="56"/>
                </a:cubicBezTo>
                <a:cubicBezTo>
                  <a:pt x="1733" y="112"/>
                  <a:pt x="1883" y="257"/>
                  <a:pt x="1601" y="368"/>
                </a:cubicBezTo>
                <a:cubicBezTo>
                  <a:pt x="1319" y="479"/>
                  <a:pt x="334" y="648"/>
                  <a:pt x="0" y="72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if (x &l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tin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if (x &l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ontin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22360" y="4264200"/>
            <a:ext cx="3363840" cy="680760"/>
          </a:xfrm>
          <a:custGeom>
            <a:avLst/>
            <a:gdLst/>
            <a:ahLst/>
            <a:rect l="l" t="t" r="r" b="b"/>
            <a:pathLst>
              <a:path w="2119" h="429">
                <a:moveTo>
                  <a:pt x="1665" y="2"/>
                </a:moveTo>
                <a:cubicBezTo>
                  <a:pt x="1715" y="11"/>
                  <a:pt x="1943" y="0"/>
                  <a:pt x="1964" y="59"/>
                </a:cubicBezTo>
                <a:cubicBezTo>
                  <a:pt x="1985" y="118"/>
                  <a:pt x="2119" y="293"/>
                  <a:pt x="1792" y="355"/>
                </a:cubicBezTo>
                <a:cubicBezTo>
                  <a:pt x="1465" y="417"/>
                  <a:pt x="373" y="414"/>
                  <a:pt x="0" y="42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t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witch (ch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a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alpha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b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c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beta or c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faul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other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τικέτες και 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i &lt; 1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o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The sum is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44600" y="2975040"/>
            <a:ext cx="2362320" cy="1285920"/>
          </a:xfrm>
          <a:custGeom>
            <a:avLst/>
            <a:gdLst/>
            <a:ahLst/>
            <a:rect l="l" t="t" r="r" b="b"/>
            <a:pathLst>
              <a:path w="1488" h="810">
                <a:moveTo>
                  <a:pt x="1259" y="810"/>
                </a:moveTo>
                <a:cubicBezTo>
                  <a:pt x="1296" y="786"/>
                  <a:pt x="1482" y="773"/>
                  <a:pt x="1479" y="665"/>
                </a:cubicBezTo>
                <a:cubicBezTo>
                  <a:pt x="1476" y="557"/>
                  <a:pt x="1488" y="275"/>
                  <a:pt x="1241" y="164"/>
                </a:cubicBezTo>
                <a:cubicBezTo>
                  <a:pt x="994" y="53"/>
                  <a:pt x="259" y="3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χ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ημένος προγραμματισμός!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ή του προγράμματο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ρόγραμμα αποτελείται από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λικές μεταβλητ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φορές από τη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scal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ύριο πρόγραμμα, διαδικασίες και συναρτήσεις δε διαφοροποιούν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κύριο πρόγραμμα ονομάζεται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διαδικασίες έχουν αποτέλεσμα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voi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ες οι συναρτήσεις στο ίδιο επίπεδ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τρέπονται φωλιασμένες 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όνο πέρασμα κατά τιμή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l by value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, int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x *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 (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f(x, x+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(6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11T08:28:40Z</dcterms:modified>
  <cp:revision>33</cp:revision>
  <dc:subject>Προγραμματιστικές Τεχνικές</dc:subject>
  <dc:title>Διαφάνειες παρουσίασης</dc:title>
</cp:coreProperties>
</file>