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1706-1B95-4D77-B91C-1FA1B8AA19C8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81280" y="457200"/>
            <a:ext cx="55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ΠΡΟΓΡΑΜΜΑΤΙΣΤΙΚΕΣ ΤΕΧΝΙΚΕ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440"/>
            <a:ext cx="86868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00240" indent="-2100240">
              <a:tabLst>
                <a:tab algn="l" pos="0"/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ιδάσκοντες: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Γιάννης Μαΐστρ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maistros@cs.ntua.gr)</a:t>
            </a:r>
            <a:br>
              <a:rPr sz="28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τάθης Ζάχ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zachos@cs.ntua.gr)</a:t>
            </a:r>
            <a:br>
              <a:rPr sz="32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nickie@softlab.ntua.g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0280" y="914400"/>
            <a:ext cx="79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Tahoma"/>
              </a:rPr>
              <a:t>http://www.softlab.ntua.gr/~nickie/Courses/progtech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3BC2-E37D-4926-9D16-2BDC63BB195D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2 (α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Τελεστές και εκφράσεις (συνέχεια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Εντολές και ροή ελέγχου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ελεστές και εκφρά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ξανά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ελεστής συνθήκ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(a &gt;= b) ? a : b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ελεστής παράθε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-1, b+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ελεστές ανάθε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 = b+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 += x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ισοδύναμο με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 = a + x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ελεστές αύξησης και μείω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++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--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τιμή πριν τη μεταβολή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++a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--a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τιμή μετά τη μεταβολή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ενή εντολή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έκφρα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 = b+5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++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f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a &gt;= b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ax = 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ax = b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657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ύνθετη εντολή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a &gt;= b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in = b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ax = 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else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ax = b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min = a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981080"/>
            <a:ext cx="42670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ρίζει νέα εμβέλεια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f (x &lt; y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temp = 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x = y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y = temp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3124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hi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 = 1, s =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i &lt;= 10) 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 += i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++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410080" y="2362320"/>
            <a:ext cx="3046320" cy="2666880"/>
            <a:chOff x="5410080" y="2362320"/>
            <a:chExt cx="3046320" cy="2666880"/>
          </a:xfrm>
        </p:grpSpPr>
        <p:sp>
          <p:nvSpPr>
            <p:cNvPr id="97" name=""/>
            <p:cNvSpPr/>
            <p:nvPr/>
          </p:nvSpPr>
          <p:spPr>
            <a:xfrm>
              <a:off x="5790960" y="2895480"/>
              <a:ext cx="1828800" cy="762120"/>
            </a:xfrm>
            <a:prstGeom prst="diamond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συνθήκη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19560" y="4038480"/>
              <a:ext cx="137160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εντολή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05360" y="3657600"/>
              <a:ext cx="0" cy="380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19760" y="3276720"/>
              <a:ext cx="38124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01000" y="3276720"/>
              <a:ext cx="0" cy="17524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05360" y="4572000"/>
              <a:ext cx="0" cy="2286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5410080" y="4800600"/>
              <a:ext cx="1295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5410080" y="2666520"/>
              <a:ext cx="0" cy="21337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10080" y="2666880"/>
              <a:ext cx="1295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05360" y="2362320"/>
              <a:ext cx="0" cy="5331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90960" y="358128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000" spc="-1" strike="noStrike">
                  <a:solidFill>
                    <a:srgbClr val="333333"/>
                  </a:solidFill>
                  <a:latin typeface="Times New Roman"/>
                </a:rPr>
                <a:t>αληθής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550280" y="281952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000" spc="-1" strike="noStrike">
                  <a:solidFill>
                    <a:srgbClr val="333333"/>
                  </a:solidFill>
                  <a:latin typeface="Times New Roman"/>
                </a:rPr>
                <a:t>ψευδής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375920" y="1758960"/>
            <a:ext cx="2716560" cy="825480"/>
          </a:xfrm>
          <a:prstGeom prst="rect">
            <a:avLst/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υνθήκη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εντολή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Eντολές και έλεγχος ροή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v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3504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ντολή do-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whil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i = 1, s = 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 += i++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i &lt;= 10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5484960" y="2209680"/>
            <a:ext cx="2667960" cy="2666880"/>
            <a:chOff x="5484960" y="2209680"/>
            <a:chExt cx="2667960" cy="2666880"/>
          </a:xfrm>
        </p:grpSpPr>
        <p:sp>
          <p:nvSpPr>
            <p:cNvPr id="113" name=""/>
            <p:cNvSpPr/>
            <p:nvPr/>
          </p:nvSpPr>
          <p:spPr>
            <a:xfrm>
              <a:off x="5486400" y="3733560"/>
              <a:ext cx="1828800" cy="762120"/>
            </a:xfrm>
            <a:prstGeom prst="diamond">
              <a:avLst/>
            </a:prstGeom>
            <a:solidFill>
              <a:srgbClr val="ffff99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συνθήκη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15000" y="2742840"/>
              <a:ext cx="1371600" cy="5335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333333"/>
                  </a:solidFill>
                  <a:latin typeface="Times New Roman"/>
                </a:rPr>
                <a:t>εντολή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400800" y="4495680"/>
              <a:ext cx="0" cy="3808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15200" y="4114440"/>
              <a:ext cx="3808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00800" y="3276360"/>
              <a:ext cx="0" cy="457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484960" y="441936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000" spc="-1" strike="noStrike">
                  <a:solidFill>
                    <a:srgbClr val="333333"/>
                  </a:solidFill>
                  <a:latin typeface="Times New Roman"/>
                </a:rPr>
                <a:t>ψευδής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46800" y="4174920"/>
              <a:ext cx="90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000" spc="-1" strike="noStrike">
                  <a:solidFill>
                    <a:srgbClr val="333333"/>
                  </a:solidFill>
                  <a:latin typeface="Times New Roman"/>
                </a:rPr>
                <a:t>αληθής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7696080" y="2438280"/>
              <a:ext cx="0" cy="16761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0800" y="2438280"/>
              <a:ext cx="1295280" cy="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00800" y="2209680"/>
              <a:ext cx="0" cy="5331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147320" y="1828800"/>
            <a:ext cx="2899440" cy="1191240"/>
          </a:xfrm>
          <a:prstGeom prst="rect">
            <a:avLst/>
          </a:prstGeom>
          <a:solidFill>
            <a:srgbClr val="bdd7e5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εντολή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while (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υνθήκη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14T22:10:23Z</cp:lastPrinted>
  <dcterms:modified xsi:type="dcterms:W3CDTF">2002-03-11T19:24:18Z</dcterms:modified>
  <cp:revision>30</cp:revision>
  <dc:subject>Προγραμματιστικές Τεχνικές</dc:subject>
  <dc:title>Διαφάνειες παρουσίασης</dc:title>
</cp:coreProperties>
</file>