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B98C-663B-4452-8EB1-5D80DCB01A7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C1D0-AEFC-49A0-9022-21D1C0185DC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ταβλητών, αρχικοποίηση, σταθε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 στι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f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elciu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farenhei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Give the temperature (C): "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celcius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arenheit = 9.0 * celcius / 5.0 + 32.0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degrees Celcius 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is %lf degrees Farenheit"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elcius, farenheit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447200" y="5257800"/>
            <a:ext cx="5639400" cy="1143000"/>
            <a:chOff x="1447200" y="5257800"/>
            <a:chExt cx="5639400" cy="1143000"/>
          </a:xfrm>
        </p:grpSpPr>
        <p:sp>
          <p:nvSpPr>
            <p:cNvPr id="107" name=""/>
            <p:cNvSpPr/>
            <p:nvPr/>
          </p:nvSpPr>
          <p:spPr>
            <a:xfrm>
              <a:off x="6172200" y="5257800"/>
              <a:ext cx="914400" cy="11430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6200000">
              <a:off x="3237480" y="4152960"/>
              <a:ext cx="304920" cy="388620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161640 h 3886200"/>
                <a:gd name="textAreaBottom" fmla="*/ 3724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world by saying "hello"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eh?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Nested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004c2b"/>
                </a:solidFill>
                <a:latin typeface="Courier New"/>
              </a:rPr>
              <a:t>comments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*/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are wrong!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, %lf, %c, %s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00000, a,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08T22:01:25Z</dcterms:modified>
  <cp:revision>30</cp:revision>
  <dc:subject>Προγραμματιστικές Τεχνικές</dc:subject>
  <dc:title>Διαφάνειες παρουσίασης</dc:title>
</cp:coreProperties>
</file>