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367A-36EF-45AA-8DE7-8C228A126307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1D10-3AB4-42B2-9237-B296A4F1E2E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τορία και γενικά χαρακτηριστικά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1999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 — C9X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08T22:01:07Z</dcterms:modified>
  <cp:revision>27</cp:revision>
  <dc:subject>Προγραμματιστικές Τεχνικές</dc:subject>
  <dc:title>Διαφάνειες παρουσίασης</dc:title>
</cp:coreProperties>
</file>