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61A7-84E9-414B-BD0F-00D366167AF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Βασίλης Βεσκούκης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64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40520" y="457200"/>
            <a:ext cx="58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660066"/>
                </a:solidFill>
                <a:latin typeface="Arial"/>
              </a:rPr>
              <a:t>(maistros@cs.ntua.gr)</a:t>
            </a:r>
            <a:br>
              <a:rPr sz="2200"/>
            </a:b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zachos@cs.ntua.gr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2400"/>
            </a:b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660066"/>
                </a:solidFill>
                <a:latin typeface="Times New Roman"/>
              </a:rPr>
              <a:t>Π.Δ. 407/80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Βασίλης Βεσκούκη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660066"/>
                </a:solidFill>
                <a:latin typeface="Tahoma"/>
              </a:rPr>
              <a:t>bxb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@softlab.ntua.gr)</a:t>
            </a:r>
            <a:br>
              <a:rPr sz="2200"/>
            </a:b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Πέτρος Στεφανέα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660066"/>
                </a:solidFill>
                <a:latin typeface="Tahoma"/>
              </a:rPr>
              <a:t>petros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@</a:t>
            </a:r>
            <a:r>
              <a:rPr b="0" lang="en-US" sz="2200" spc="-1" strike="noStrike">
                <a:solidFill>
                  <a:srgbClr val="660066"/>
                </a:solidFill>
                <a:latin typeface="Tahoma"/>
              </a:rPr>
              <a:t>mail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.ntua.gr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0E94-13CE-443D-8273-B924B6E32D8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Βασίλης Βεσκούκης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64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#10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β)</a:t>
            </a:r>
            <a:endParaRPr b="1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έντρα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έντρα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V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εριστροφή - Αναδιάταξ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λγόριθμ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αδείγματα ζυγισμένων δέντρ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68360" y="1628640"/>
            <a:ext cx="3357360" cy="4581720"/>
            <a:chOff x="468360" y="1628640"/>
            <a:chExt cx="3357360" cy="4581720"/>
          </a:xfrm>
        </p:grpSpPr>
        <p:sp>
          <p:nvSpPr>
            <p:cNvPr id="112" name=""/>
            <p:cNvSpPr/>
            <p:nvPr/>
          </p:nvSpPr>
          <p:spPr>
            <a:xfrm>
              <a:off x="468360" y="162864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20160" y="2278440"/>
              <a:ext cx="55008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58720" y="300456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3960" y="173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3880" y="2397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24680" y="3114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99360" y="3664800"/>
              <a:ext cx="55008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64600" y="3775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8640" y="2068560"/>
              <a:ext cx="164880" cy="2199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48920" y="2729160"/>
              <a:ext cx="219960" cy="275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99360" y="3444840"/>
              <a:ext cx="164880" cy="2199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4720" y="4358880"/>
              <a:ext cx="55008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1760" y="4469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39640" y="4160160"/>
              <a:ext cx="164880" cy="2199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5000" y="498600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00600" y="5096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35000" y="4799160"/>
              <a:ext cx="164880" cy="2415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5280" y="570168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40880" y="5811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5280" y="5426640"/>
              <a:ext cx="164880" cy="275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59280" y="1413000"/>
            <a:ext cx="3801600" cy="2692080"/>
            <a:chOff x="3059280" y="1413000"/>
            <a:chExt cx="3801600" cy="2692080"/>
          </a:xfrm>
        </p:grpSpPr>
        <p:sp>
          <p:nvSpPr>
            <p:cNvPr id="133" name=""/>
            <p:cNvSpPr/>
            <p:nvPr/>
          </p:nvSpPr>
          <p:spPr>
            <a:xfrm>
              <a:off x="3059280" y="357840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97840" y="286524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0600" y="217368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36760" y="3694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1640" y="2991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5920" y="229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13920" y="141300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9960" y="1527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526920" y="3344400"/>
              <a:ext cx="175320" cy="234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053240" y="2642040"/>
              <a:ext cx="233640" cy="2926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638240" y="1881360"/>
              <a:ext cx="292320" cy="351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40240" y="215064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17720" y="2270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81920" y="1939680"/>
              <a:ext cx="175320" cy="234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08240" y="281772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84640" y="2935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8240" y="2619000"/>
              <a:ext cx="175320" cy="257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6240" y="357840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51200" y="3694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6240" y="3286080"/>
              <a:ext cx="175320" cy="2923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796000" y="4365720"/>
            <a:ext cx="2754000" cy="1901520"/>
            <a:chOff x="5796000" y="4365720"/>
            <a:chExt cx="2754000" cy="1901520"/>
          </a:xfrm>
        </p:grpSpPr>
        <p:sp>
          <p:nvSpPr>
            <p:cNvPr id="154" name=""/>
            <p:cNvSpPr/>
            <p:nvPr/>
          </p:nvSpPr>
          <p:spPr>
            <a:xfrm>
              <a:off x="6648480" y="574884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6000" y="573804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60120" y="505728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416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5764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33640" y="5173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4080" y="436572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68320" y="4482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21280" y="5518440"/>
              <a:ext cx="57600" cy="230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244560" y="5518440"/>
              <a:ext cx="230040" cy="288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821280" y="4826880"/>
              <a:ext cx="230400" cy="230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12840" y="509184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86000" y="5207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55240" y="4884120"/>
              <a:ext cx="172800" cy="230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74000" y="5748840"/>
              <a:ext cx="57600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4788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74000" y="5553360"/>
              <a:ext cx="172800" cy="2530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82440" y="5748840"/>
              <a:ext cx="57600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5452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628040" y="5576040"/>
              <a:ext cx="57240" cy="1728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411280" y="198900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333333"/>
          </a:solidFill>
          <a:ln w="93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581800">
            <a:off x="5579640" y="422100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333333"/>
          </a:solidFill>
          <a:ln w="93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υγισμένα δέντρ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περίπτωση όπου το ύψος του αριστερού υποδέντρου είναι </a:t>
            </a:r>
            <a:r>
              <a:rPr b="1" i="1" lang="el-GR" sz="3200" spc="-1" strike="noStrike">
                <a:solidFill>
                  <a:srgbClr val="003366"/>
                </a:solidFill>
                <a:latin typeface="Times New Roman"/>
              </a:rPr>
              <a:t>ακριβώς ίσ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με το ύψος του δεξιού, δεν επιτυγχάνεται εύκολ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 από την παραπάνω περίπτωση υπήρχαν </a:t>
            </a:r>
            <a:r>
              <a:rPr b="1" lang="el-GR" sz="3200" spc="-1" strike="noStrike">
                <a:solidFill>
                  <a:srgbClr val="003366"/>
                </a:solidFill>
                <a:latin typeface="Times New Roman"/>
              </a:rPr>
              <a:t>«μικρές» αποκλίσει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, οι επιδόσεις του δέντρου στην αναζήτηση δεν θα επηρεάζονταν ιδιαίτε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(Adelson-Velskii and Landis)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έ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υ οποίου </a:t>
            </a: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το ύψος του αριστερού υποδέντρου διαφέρει από αυτό του δεξιού το πολύ κατά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δεξί και αριστερό υποδέντρο ενός δέντρ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επίσης δέντρ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κενό δέντρο είναι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ιδιότητες αυτές διατηρούνται με παρεμβάσεις (αναδιάταξη) καθώς νέα στοιχεία προστίθενται στο δέντρο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00720" cy="498312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λέγεται «ψηλό από αριστερά» όταν το ύψος του αριστερού υποδέντρου είναι μεγαλύτερο από αυτό του δεξιού (κατά πόσο;;;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ίστοιχα για το «ψηλό από δεξιά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άρχουν αρκετοί τρόποι με τους οποίους η προσθήκη ή η διαγραφή στοιχείων σε έ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βιάζει τη συνθήκη χαρακτηρισμού τ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χαρακτηριστική ιδιότητα ενός δέντρ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πορεί να παύει να ισχύει με την προσθήκη νέων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επαναφορά της ιδιότητας σε ισχύ, γίνεται με </a:t>
            </a:r>
            <a:r>
              <a:rPr b="1" i="1" lang="el-GR" sz="3200" spc="-1" strike="noStrike">
                <a:solidFill>
                  <a:srgbClr val="003366"/>
                </a:solidFill>
                <a:latin typeface="Times New Roman"/>
              </a:rPr>
              <a:t>περιστροφ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ου δέντρου, ανάλογα με την περίπτωση αναδιάταξης που συντρέχε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περιστροφή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0560" y="1916280"/>
            <a:ext cx="8591400" cy="3892320"/>
            <a:chOff x="250560" y="1916280"/>
            <a:chExt cx="8591400" cy="3892320"/>
          </a:xfrm>
        </p:grpSpPr>
        <p:sp>
          <p:nvSpPr>
            <p:cNvPr id="188" name=""/>
            <p:cNvSpPr/>
            <p:nvPr/>
          </p:nvSpPr>
          <p:spPr>
            <a:xfrm>
              <a:off x="2248560" y="2122560"/>
              <a:ext cx="660600" cy="5875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02040" y="3958560"/>
              <a:ext cx="1101240" cy="9547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2880" y="3958560"/>
              <a:ext cx="1028160" cy="9547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146960" y="3297600"/>
              <a:ext cx="440280" cy="660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09520" y="2563200"/>
              <a:ext cx="734400" cy="440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01880" y="43963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43760" y="44697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1080" y="2783520"/>
              <a:ext cx="660600" cy="5875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9840" y="3003840"/>
              <a:ext cx="1101240" cy="9547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98120" y="3515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Z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28240" y="3297600"/>
              <a:ext cx="587160" cy="660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28240" y="2563200"/>
              <a:ext cx="293760" cy="293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81040" y="220680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4280" y="286596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50560" y="4913640"/>
              <a:ext cx="381960" cy="82152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61400" y="4913640"/>
              <a:ext cx="351720" cy="82152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0920" y="5808600"/>
              <a:ext cx="176220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36280" y="2356920"/>
              <a:ext cx="0" cy="257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21880" y="3395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h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89400" y="397260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9000" y="2775960"/>
              <a:ext cx="660600" cy="6087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2600" y="3972600"/>
              <a:ext cx="1101240" cy="987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3800" y="3091320"/>
              <a:ext cx="1028160" cy="987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537520" y="2723760"/>
              <a:ext cx="366840" cy="36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61040" y="3311640"/>
              <a:ext cx="366840" cy="660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2440" y="35503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34680" y="45046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46760" y="2188440"/>
              <a:ext cx="660600" cy="6087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40720" y="3972600"/>
              <a:ext cx="1101240" cy="987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08280" y="4504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Z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65680" y="2577240"/>
              <a:ext cx="807840" cy="366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079400" y="3311640"/>
              <a:ext cx="440280" cy="6714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286596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80320" y="228060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582800" y="4058280"/>
              <a:ext cx="440280" cy="94212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51960" y="4058280"/>
              <a:ext cx="366840" cy="86868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6600" y="4926960"/>
              <a:ext cx="1688760" cy="144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7760" y="506952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4c2b"/>
                  </a:solidFill>
                  <a:latin typeface="Arial Narrow"/>
                </a:rPr>
                <a:t>New item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35240" y="422028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4c2b"/>
                  </a:solidFill>
                  <a:latin typeface="Arial Narrow"/>
                </a:rPr>
                <a:t>New Item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89400" y="492696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89400" y="301788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89400" y="235692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19360" y="2283120"/>
              <a:ext cx="0" cy="440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86560" y="1916280"/>
              <a:ext cx="1174320" cy="88128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ή περιστροφή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1700280"/>
            <a:ext cx="8664120" cy="3851280"/>
            <a:chOff x="228600" y="1700280"/>
            <a:chExt cx="8664120" cy="3851280"/>
          </a:xfrm>
        </p:grpSpPr>
        <p:sp>
          <p:nvSpPr>
            <p:cNvPr id="234" name=""/>
            <p:cNvSpPr/>
            <p:nvPr/>
          </p:nvSpPr>
          <p:spPr>
            <a:xfrm>
              <a:off x="2243160" y="18482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4400" y="2144520"/>
              <a:ext cx="740520" cy="44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31040" y="2218680"/>
              <a:ext cx="296280" cy="295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76000" y="19224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75440" y="1996560"/>
              <a:ext cx="0" cy="3554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61040" y="304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h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82120" y="36255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55080" y="4216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7480" y="4588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7480" y="266292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27480" y="1996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1857240" y="1774440"/>
              <a:ext cx="666360" cy="1555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80080" y="1700280"/>
              <a:ext cx="962280" cy="74052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17320" y="34034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48720" y="3477600"/>
              <a:ext cx="4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8840" y="23666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61320" y="24408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97000" y="362556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70720" y="4957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87160" y="451440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58680" y="50515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600" y="36255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0120" y="4162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47000" y="2810880"/>
              <a:ext cx="740160" cy="814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080080" y="3847680"/>
              <a:ext cx="370080" cy="666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46440" y="3921840"/>
              <a:ext cx="444240" cy="592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27480" y="3625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39200" y="3181320"/>
              <a:ext cx="2517840" cy="2369880"/>
            </a:xfrm>
            <a:prstGeom prst="triangle">
              <a:avLst>
                <a:gd name="adj" fmla="val 50000"/>
              </a:avLst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27480" y="5551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64520" y="17744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97000" y="184824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9400" y="2440800"/>
              <a:ext cx="57708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12240" y="25146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27160" y="244080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60000" y="25146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72280" y="451440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43400" y="4216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16520" y="25887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88760" y="31798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86400" y="362556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57920" y="4162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75440" y="36255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48040" y="4162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968000" y="2885040"/>
              <a:ext cx="37008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82680" y="2885040"/>
              <a:ext cx="29628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115400" y="2885040"/>
              <a:ext cx="44424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56280" y="2885040"/>
              <a:ext cx="44424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782320" y="2144520"/>
              <a:ext cx="740520" cy="370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67440" y="2144520"/>
              <a:ext cx="518040" cy="370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31400" y="2810880"/>
              <a:ext cx="518400" cy="666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ή περιστροφή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50920" y="1197000"/>
            <a:ext cx="4031640" cy="3882600"/>
            <a:chOff x="250920" y="1197000"/>
            <a:chExt cx="4031640" cy="3882600"/>
          </a:xfrm>
        </p:grpSpPr>
        <p:sp>
          <p:nvSpPr>
            <p:cNvPr id="286" name=""/>
            <p:cNvSpPr/>
            <p:nvPr/>
          </p:nvSpPr>
          <p:spPr>
            <a:xfrm>
              <a:off x="2282400" y="1346040"/>
              <a:ext cx="581400" cy="50868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38680" y="1644840"/>
              <a:ext cx="746280" cy="447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967760" y="1719360"/>
              <a:ext cx="298440" cy="298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15960" y="1419120"/>
              <a:ext cx="42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17160" y="1197000"/>
              <a:ext cx="970560" cy="74628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6560" y="2914200"/>
              <a:ext cx="581760" cy="50868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90840" y="298908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60520" y="1868760"/>
              <a:ext cx="581760" cy="50868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94800" y="194328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5000" y="44794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19920" y="4034520"/>
              <a:ext cx="1119960" cy="100512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95040" y="45741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0920" y="3138480"/>
              <a:ext cx="1119960" cy="10051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5680" y="3679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73280" y="2316960"/>
              <a:ext cx="746640" cy="821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16800" y="3362400"/>
              <a:ext cx="373320" cy="671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89280" y="3437280"/>
              <a:ext cx="447840" cy="597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70880" y="2690280"/>
              <a:ext cx="2538360" cy="2389320"/>
            </a:xfrm>
            <a:prstGeom prst="triangle">
              <a:avLst>
                <a:gd name="adj" fmla="val 50000"/>
              </a:avLst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14760" y="4034520"/>
              <a:ext cx="1119960" cy="100512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62600" y="2093040"/>
              <a:ext cx="1119960" cy="100476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37720" y="268704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68120" y="2316960"/>
              <a:ext cx="522720" cy="671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924360" y="1916280"/>
            <a:ext cx="5020560" cy="4273200"/>
            <a:chOff x="3924360" y="1916280"/>
            <a:chExt cx="5020560" cy="4273200"/>
          </a:xfrm>
        </p:grpSpPr>
        <p:sp>
          <p:nvSpPr>
            <p:cNvPr id="309" name=""/>
            <p:cNvSpPr/>
            <p:nvPr/>
          </p:nvSpPr>
          <p:spPr>
            <a:xfrm>
              <a:off x="6843600" y="207288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3360" y="2386800"/>
              <a:ext cx="784080" cy="47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513120" y="2465280"/>
              <a:ext cx="313920" cy="313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5440" y="214956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70080" y="1916280"/>
              <a:ext cx="1019880" cy="78444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81960" y="395640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24160" y="40330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80320" y="2622240"/>
              <a:ext cx="61128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22520" y="270072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30640" y="43470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71720" y="513324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67360" y="570384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4360" y="5133240"/>
              <a:ext cx="1176480" cy="10562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19640" y="570384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257440" y="3093120"/>
              <a:ext cx="784440" cy="862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551840" y="4427280"/>
              <a:ext cx="3924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13120" y="387756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68440" y="2857680"/>
              <a:ext cx="1176480" cy="10555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164440" y="34840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13120" y="3093120"/>
              <a:ext cx="5490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5120" y="4427280"/>
              <a:ext cx="70596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rot="1948800">
            <a:off x="4427640" y="249192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ή περιστροφή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γ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9280" y="1197000"/>
            <a:ext cx="5020560" cy="4273200"/>
            <a:chOff x="179280" y="1197000"/>
            <a:chExt cx="5020560" cy="4273200"/>
          </a:xfrm>
        </p:grpSpPr>
        <p:sp>
          <p:nvSpPr>
            <p:cNvPr id="333" name=""/>
            <p:cNvSpPr/>
            <p:nvPr/>
          </p:nvSpPr>
          <p:spPr>
            <a:xfrm>
              <a:off x="3098520" y="135360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8280" y="1667520"/>
              <a:ext cx="784080" cy="47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768040" y="1746000"/>
              <a:ext cx="313920" cy="313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360" y="1430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25000" y="1197000"/>
              <a:ext cx="1019880" cy="78444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36880" y="323712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79080" y="33138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35240" y="1902960"/>
              <a:ext cx="61128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77440" y="198144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85560" y="36277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26640" y="441396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2280" y="49845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9280" y="4413960"/>
              <a:ext cx="1176480" cy="10562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4560" y="49845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512360" y="2373840"/>
              <a:ext cx="784440" cy="862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6760" y="3708000"/>
              <a:ext cx="3924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68040" y="315828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3360" y="2138400"/>
              <a:ext cx="1176480" cy="10555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19360" y="27648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68040" y="2373840"/>
              <a:ext cx="5490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70040" y="3708000"/>
              <a:ext cx="70596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708360" y="3500280"/>
            <a:ext cx="5181120" cy="2778120"/>
            <a:chOff x="3708360" y="3500280"/>
            <a:chExt cx="5181120" cy="2778120"/>
          </a:xfrm>
        </p:grpSpPr>
        <p:sp>
          <p:nvSpPr>
            <p:cNvPr id="355" name=""/>
            <p:cNvSpPr/>
            <p:nvPr/>
          </p:nvSpPr>
          <p:spPr>
            <a:xfrm>
              <a:off x="5933880" y="3500280"/>
              <a:ext cx="593280" cy="5191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03840" y="3805200"/>
              <a:ext cx="76140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613120" y="3881160"/>
              <a:ext cx="30456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70320" y="3576600"/>
              <a:ext cx="4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95440" y="4109760"/>
              <a:ext cx="593640" cy="5191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32240" y="4186080"/>
              <a:ext cx="4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52840" y="4262400"/>
              <a:ext cx="593640" cy="5191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89640" y="4338360"/>
              <a:ext cx="4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81600" y="57085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5920" y="5252760"/>
              <a:ext cx="1142640" cy="10256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38600" y="58053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08360" y="5252760"/>
              <a:ext cx="1142640" cy="10256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90680" y="58053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317480" y="4491000"/>
              <a:ext cx="837720" cy="761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984720" y="4719600"/>
              <a:ext cx="30456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75240" y="5252760"/>
              <a:ext cx="1142640" cy="10256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46840" y="5252760"/>
              <a:ext cx="1142640" cy="10256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29520" y="58608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36800" y="4643280"/>
              <a:ext cx="228240" cy="609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70520" y="4719600"/>
              <a:ext cx="60912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 rot="1948800">
            <a:off x="4067280" y="3715920"/>
            <a:ext cx="574560" cy="432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δυαδικής αναζήτη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νδρικές δομές δεδομένων στις οπο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λα τα στοιχεία στο αριστερό υποδέντρο της ρίζας είναι μικρότερα από την ρίζ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λα τα στοιχεία στο δεξί υποδέντρο της ρίζας είναι μεγαλύτερα ή ίσα με την ρίζ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αριστερό και το δεξί υποδέντρο είναι δέντρα δυαδικής αναζήτ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nary Search Trees - BS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ριπτώσεις αναδιάταξ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ΑΑ: ένα αριστερό υποδέντρο ενός δέντρου 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που είναι ψηλό από αριστερά, γίνεται επίσης ψηλό από αριστερ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left of lef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ΔΔ: τα αντίστοιχα για το δεξί υποδέντρο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right of righ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ΔΑ: ένα υποδέντρο ενός δέντρου 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ψηλού από αριστερ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γίνεται ψηλό από δεξι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right of lef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ΑΔ: ένα υποδέντρο ενός δέντρου 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ψηλού από δεξι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γίνεται ψηλό από αριστερ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left of righ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ριπτώσεις αναδιάταξης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96160" cy="465156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ριπτώσεις αναδιάταξης (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713800" cy="481644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Α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81968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ΔΔ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085840" y="1268280"/>
            <a:ext cx="496440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Δ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2624040" y="1295280"/>
            <a:ext cx="389592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ΑΔ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340000" y="1268280"/>
            <a:ext cx="452124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ομή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N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key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keyTyp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data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dataTyp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lef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pointer to Nod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righ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pointer to Nod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bal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LeftH, EvenH, Right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End N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ε 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ισαγωγή νέων στοιχείων γίνεται στα φύλλα, όπως στα δέντρ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πίζεται το φύλλο στο οποίο θα γίνει η εισαγωγή και δημιουργείται νέος κόμβ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ίνεται οπισθοδρόμηση μέχρι την κορυφή του δέντρου, με έλεγχο της ισχύος της συνθήκης ισορροπία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 κάθε βήμα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ς τα πίσω, και επαναφορά σε ισορροπία, όπου απαιτείτα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ε 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γραμμα κλήσης μιας αναδρομικής συνάρτησης εισαγωγ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7254720" cy="348948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δυαδικής αναζήτη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γενική εικόνα ενός τέτοιου δέντ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19280" y="2205000"/>
            <a:ext cx="5356080" cy="3043440"/>
            <a:chOff x="1619280" y="2205000"/>
            <a:chExt cx="5356080" cy="304344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19280" y="2205000"/>
              <a:ext cx="5356080" cy="30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09440" y="43657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333333"/>
                  </a:solidFill>
                  <a:latin typeface="Arial"/>
                </a:rPr>
                <a:t>&gt;=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66"/>
                </a:solidFill>
                <a:latin typeface="Times New Roman"/>
              </a:rPr>
              <a:t>ΑΛΓΟΡΙΘΜΟΣ</a:t>
            </a:r>
            <a:r>
              <a:rPr b="1" lang="en-US" sz="2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AVLInsert( ref root &lt;tree pointer&gt;, 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val newPtr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if (root null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 = newPt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taller = tru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return ro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if (newPtr-&gt;key &lt; root-&gt;key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left = AVLInsert (root-&gt;left, newPtr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taller)         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Left subtree is tall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if (root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 = leftBalance (root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elseif (root even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lef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          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Was right high -- now even 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New data &gt;= root da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4c2b"/>
                </a:solidFill>
                <a:latin typeface="Times New Roman"/>
              </a:rPr>
              <a:t>(Συνέχεια)</a:t>
            </a:r>
            <a:r>
              <a:rPr b="1" lang="el-G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AVLInsert( ref root &lt;tree pointer&gt;, 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val newPtr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// New data &gt;= root data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 right = AVLInsert (root-&gt;right , newPtr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taller)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Right subtree is tall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if (root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elseif (root even-high)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Was balanced -- now right 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righ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 = rightBalance (root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5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6  return ro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nd AVLInse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66"/>
                </a:solidFill>
                <a:latin typeface="Times New Roman"/>
              </a:rPr>
              <a:t>ΑΛΓΟΡΙΘΜΟΣ 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leftBalance (ref root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leftTree = root-&gt; lef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leftTree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Case 1: Left of left.  Single rotation righ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tateRight (root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lef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Case 2: Right of left.  Double rotation require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ightTree = leftTree-&gt;righ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adjust balance factor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rightTree-&gt;bal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righ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lef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if (rightTree-&gt;bal = even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lef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4c2b"/>
                </a:solidFill>
                <a:latin typeface="Times New Roman"/>
              </a:rPr>
              <a:t>(Συνέχεια)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leftBalance (ref root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rightTree-&gt;bal is righ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leftTree-&gt;bal = lef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5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6  righ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7  root-&gt;left = rotateLeft (leftTre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8  root = rotateRight (root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9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5  return ro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nd leftBala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ρισσότερα για 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γραφ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βάστε αντίστοιχο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wnload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τη σελίδα του μαθ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ιβλιοθήκη συναρτήσε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πορείτε να κατεβάσετε ένα σύνολο έτοιμων συναρτήσεων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το χειρισμό δέντρων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τη σελίδα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eb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υ μαθ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αδείγματ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γκυρα δέντ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7161120" cy="4380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αδείγματ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η-έγκυρα δέντ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291360" cy="432252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τρων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order: 23 18 12 20 44 35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order: 12 20 18 35 52 44 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order: 12 18 20 23 35 44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359400" cy="242568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ύγισμ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λογα με τη σειρά άφιξης των στοιχείων και τον τρόπο δημιουργίας του δέντρ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T,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ια τα ίδια στοιχεία δεν προκύπτει πάντα το ίδιο δέντ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ύψος του δέντρου σχετίζεται με το χρόνο αναζήτησης ενός στοιχείου μέσα στο δέντ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ύγισμ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ζήτηση με πολυπλοκότητα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Ο(Ν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[χειρότερη περίπτωση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χρι Ο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)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[καλύτερη περίπτωση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0920" y="2997360"/>
            <a:ext cx="4969080" cy="323028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ύγισμ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κειμένου μια αναζήτηση να διατρέχει όσο το δυνατόν μικρότερο μέρος του δέντρου, αυτό πρέπει να είναι «ζυγισμένο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«Ζυγισμένο»: το βάθος του αριστερού υποδέντρου δεν διαφέρει περισσότερο από 1 από αυτό του δεξιού (ιδανικά: είναι ίσα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 κατά την προσθήκη νέων στοιχείων στο δέντρο η ζυγαριά «γείρει» δεξιά ή αριστερά, απαιτείται διόρθωση του δέντ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Βασίλειος Βεσκούκης</dc:creator>
  <dc:description/>
  <dc:language>en-US</dc:language>
  <cp:lastModifiedBy>Nikolaos S. Papaspyrou</cp:lastModifiedBy>
  <cp:lastPrinted>2000-02-14T22:10:23Z</cp:lastPrinted>
  <dcterms:modified xsi:type="dcterms:W3CDTF">2002-08-31T18:17:00Z</dcterms:modified>
  <cp:revision>85</cp:revision>
  <dc:subject>Προγραμματιστικές Τεχνικές</dc:subject>
  <dc:title>Διαφάνειες παρουσίαση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3961805</vt:r8>
  </property>
  <property fmtid="{D5CDD505-2E9C-101B-9397-08002B2CF9AE}" pid="3" name="_AuthorEmail">
    <vt:lpwstr>v.vescoukis@cs.ntua.gr</vt:lpwstr>
  </property>
  <property fmtid="{D5CDD505-2E9C-101B-9397-08002B2CF9AE}" pid="4" name="_AuthorEmailDisplayName">
    <vt:lpwstr>Vassilios Vescoukis</vt:lpwstr>
  </property>
  <property fmtid="{D5CDD505-2E9C-101B-9397-08002B2CF9AE}" pid="5" name="_EmailSubject">
    <vt:lpwstr>Η τελική μορφή των διαφανειών</vt:lpwstr>
  </property>
</Properties>
</file>